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BF03-68D1-4358-A69E-7F573052A2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E7D6-7A11-452F-9CF0-D13AD74F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B0ED-58B1-4062-A247-0E197DB2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C383-E3B6-4284-ABB5-B23E26DD1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03AD-026D-4B87-AAEF-FE090F4F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DA29-1A3F-405B-8C72-8452A0AF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0C00-A441-49B9-A3AD-90FAC4E9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EF8C0-565B-40AD-A688-867C90C7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A645-2CA2-42AA-BBF8-AC13F5C0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538E-2C72-4EE5-80C3-9A6D9142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1683-EFD3-4DCB-81AE-3CC084D1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063D-515E-43B3-8FAF-C3E7B7BA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4C9D-FD43-469C-90D2-406947980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Onestopclil PowerPoint Masterslide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werPoint Masterslide with Log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owerPoint Masterslide with 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restless Earth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What words do you already know to do with volcan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and the worksheet, match the halve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 volcano is formed.  Work in pairs.  Take turns, one talks the other listens, then swap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6:19Z</dcterms:modified>
  <cp:revision>43</cp:revision>
  <dc:subject/>
  <dc:title>Slide 0</dc:title>
</cp:coreProperties>
</file>