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E124-3761-4D69-81C0-B5D03C9896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046E-8909-4A7E-86A9-12D391FD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2996-0573-4909-A37B-359DCE27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56FF-556B-4495-A3E7-8FEEB791D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F5B7-D171-4412-A6BF-EDC0199E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EB02-D063-4EC1-B684-8FEF28C0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E770-B628-46EF-AFFE-9025D108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6A21-C567-4671-9C7A-D6423E9B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CD86-F923-454A-A3FE-1687102E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1183-BE16-4F2D-8C13-625EC815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0C70-3AF7-4026-AC9F-181139C2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782C-DFE1-4773-8698-06347E60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ADED-A3C5-40D6-95D9-2281BCF9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Onestopclil PowerPoint Masterslide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werPoint Masterslide with Log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owerPoint Masterslide with 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restless Earth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What words do you already know to do with volcan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and the worksheet, match the halve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 volcano is formed.  Work in pairs.  Take turns, one talks the other listens, then swap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6:19Z</dcterms:modified>
  <cp:revision>43</cp:revision>
  <dc:subject/>
  <dc:title>Slide 0</dc:title>
</cp:coreProperties>
</file>