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8510E-459E-4A37-9564-BF8047AF51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017D8-6228-4BB2-9E76-F4002281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D2C79-1C24-4109-A0BF-DCBB9F0E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B7ADF-C9F1-4025-BEB1-B664573018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B3641-AA12-478A-9888-5BD84822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0B8B3-8BE3-4B75-A33B-F0094550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21548-EDEA-4DB5-BB43-94DFE2AE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4089D-CBCB-4F90-8F6A-416573369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B0F97-1093-4A95-8E1A-32A6F7D27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56DAB-D84F-41B4-8224-27F629E6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254C4-B367-4339-BC37-BFD111C8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CA925-141F-49E9-B6B5-C96BBB4D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89D0-6B4B-4B05-AA5A-02A789D27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8" descr="Onestopclil PowerPoint Masterslide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hyperlink" Target="http://www.onestopenglish.com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PowerPoint Masterslide with Logo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PowerPoint Masterslide with Logo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6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e restless Earth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42920" y="6400800"/>
            <a:ext cx="8893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onestopenglish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Keith Kel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10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. What words do you already know to do with volcano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. Do exercise 1 on the worksheet: label the dia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exercise 2 on the worksheet: match the pictures with the correct ca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he animation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ShockwaveFlash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and the worksheet, match the halves of senten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 the PPT template to practice talking about how a volcano is formed.  Work in pairs.  Take turns, one talks the other listens, then swap ro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l.williams</cp:lastModifiedBy>
  <dcterms:modified xsi:type="dcterms:W3CDTF">2010-09-02T12:16:19Z</dcterms:modified>
  <cp:revision>43</cp:revision>
  <dc:subject/>
  <dc:title>Slide 0</dc:title>
</cp:coreProperties>
</file>