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WHOOSH.WAV" ContentType="audio/x-wav"/>
  <Override PartName="/ppt/media/image16.wmf" ContentType="image/x-wmf"/>
  <Override PartName="/ppt/media/image3.wmf" ContentType="image/x-wmf"/>
  <Override PartName="/ppt/media/image23.png" ContentType="image/png"/>
  <Override PartName="/ppt/media/LASER.WAV" ContentType="audio/x-wav"/>
  <Override PartName="/ppt/media/image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3.wmf" ContentType="image/x-wmf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4B5-566D-4821-8011-91D8A1F8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8C1-31D9-4C81-B3D7-FA02169A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653-C474-4007-9A3F-1BEC5A9E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225-7E8C-4131-97E5-5EDFCBC9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9A6-CE87-48F8-BA0F-FB958C44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759-EA1C-4165-9B2A-D608671E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AB5-4DB5-48E7-B57E-B5A8C34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25E-3BA7-4B89-A94E-589807EE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006-0826-43EC-BF5E-9319F063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DB5-8F98-4253-9379-79149EF5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9AF-D3F2-45B4-A893-256A8322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75B-F3AB-4D7E-808F-B7CEFCE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4626-E6F6-4F4B-A57B-062EABE179B3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508680"/>
            <a:ext cx="297180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1143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6160" y="1446840"/>
            <a:ext cx="157212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WALK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38480" y="432360"/>
            <a:ext cx="43434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PLAY VOLLEYBA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28600" y="2285280"/>
            <a:ext cx="586728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3300"/>
                </a:solidFill>
                <a:latin typeface="Times New Roman"/>
              </a:rPr>
              <a:t>LISTEN TO THE RADI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00200" y="3253320"/>
            <a:ext cx="4191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3300"/>
                </a:solidFill>
                <a:latin typeface="Times New Roman"/>
              </a:rPr>
              <a:t>PLAY THE PIAN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838080" y="4775760"/>
            <a:ext cx="4343400" cy="581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952880" y="403848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886200" y="5880960"/>
            <a:ext cx="43434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GO TO SCHOO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04920" y="5653440"/>
            <a:ext cx="1828800" cy="581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81680" y="390852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249960" y="3351960"/>
            <a:ext cx="1468440" cy="581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819520" y="1371240"/>
            <a:ext cx="59436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99ff33"/>
                </a:solidFill>
                <a:latin typeface="Times New Roman"/>
              </a:rPr>
              <a:t>DO HOMEWORK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304960" y="4829760"/>
            <a:ext cx="3687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ff"/>
                </a:solidFill>
                <a:latin typeface="Times New Roman"/>
              </a:rPr>
              <a:t>REPAIR THE CA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629400" y="2544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ff"/>
                </a:solidFill>
                <a:latin typeface="Times New Roman"/>
              </a:rPr>
              <a:t>READ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1460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457200" y="3959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4" name="AutoShape 38"/>
          <p:cNvSpPr/>
          <p:nvPr/>
        </p:nvSpPr>
        <p:spPr>
          <a:xfrm>
            <a:off x="5257800" y="274320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59440" y="3808800"/>
            <a:ext cx="621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705720" y="44186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019920" y="579024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 VIOLIN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77120" y="5104440"/>
            <a:ext cx="159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2438280" y="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048120" y="2513520"/>
            <a:ext cx="26668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MR. BENSO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86200" y="19040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3581280" y="3047040"/>
            <a:ext cx="159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3657600" y="1370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2"/>
          <p:cNvSpPr/>
          <p:nvPr/>
        </p:nvSpPr>
        <p:spPr>
          <a:xfrm rot="4549200">
            <a:off x="4745520" y="10080"/>
            <a:ext cx="3200400" cy="3192480"/>
          </a:xfrm>
          <a:prstGeom prst="parallelogram">
            <a:avLst>
              <a:gd name="adj" fmla="val 250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403848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46400" y="365508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035320" y="1294200"/>
            <a:ext cx="273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ANE AND MAR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726080" y="684720"/>
            <a:ext cx="1145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251760" y="6847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16800" y="1980000"/>
            <a:ext cx="1442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1" name="AutoShape 15"/>
          <p:cNvSpPr/>
          <p:nvPr/>
        </p:nvSpPr>
        <p:spPr>
          <a:xfrm rot="4549200">
            <a:off x="5482080" y="2823120"/>
            <a:ext cx="3200400" cy="3192480"/>
          </a:xfrm>
          <a:prstGeom prst="parallelogram">
            <a:avLst>
              <a:gd name="adj" fmla="val 2595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488560" y="342792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784920" y="34279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943600" y="4037400"/>
            <a:ext cx="2133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LISTEN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943600" y="4723200"/>
            <a:ext cx="2590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TO MUSIC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6553080" cy="256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899080" y="35784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0" y="3200400"/>
            <a:ext cx="2819520" cy="3276720"/>
          </a:xfrm>
          <a:prstGeom prst="pentagon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60080" y="4951800"/>
            <a:ext cx="1922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BLA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39880" y="37328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145160" y="434232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30440" y="559980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324480" y="3200400"/>
            <a:ext cx="2819520" cy="3276720"/>
          </a:xfrm>
          <a:prstGeom prst="pentagon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392960" y="3656520"/>
            <a:ext cx="621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956640" y="5637600"/>
            <a:ext cx="163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THE CAR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15520" y="4951800"/>
            <a:ext cx="192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EPAI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461720" y="426600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4952880" y="22860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59" name="Object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495600" cy="2840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320" y="3655080"/>
            <a:ext cx="3623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5880" y="9896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E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793120" y="379800"/>
            <a:ext cx="1145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241040" y="37980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791320" y="167544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5029200" y="289548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095880" y="30470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488560" y="365652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172200" y="365652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ING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791320" y="4266000"/>
            <a:ext cx="2133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HE PIANO.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3962520" y="228600"/>
            <a:ext cx="472428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082680" cy="373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140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28000" y="989640"/>
            <a:ext cx="3778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LLY, FRED AND LUC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43640" y="37980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718320" y="37980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489640" y="1599120"/>
            <a:ext cx="144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038480" y="2590920"/>
            <a:ext cx="472464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949000" y="2742120"/>
            <a:ext cx="10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251040" y="3275640"/>
            <a:ext cx="160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32440" y="327564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77880" y="3885120"/>
            <a:ext cx="228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FOR THE BUS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5029200" y="22860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444840" cy="3189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18600" y="374724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COO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43600" y="1599120"/>
            <a:ext cx="121752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JUN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029200" y="1599120"/>
            <a:ext cx="76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031000" y="9896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029200" y="2208600"/>
            <a:ext cx="296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029200" y="312408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029200" y="3808800"/>
            <a:ext cx="114300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029200" y="4494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029200" y="51804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SLEEP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0"/>
          <p:cNvSpPr/>
          <p:nvPr/>
        </p:nvSpPr>
        <p:spPr>
          <a:xfrm>
            <a:off x="304920" y="213372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838080" y="2361240"/>
            <a:ext cx="17528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4191120" y="2377080"/>
            <a:ext cx="22860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BIRD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905120" y="3199680"/>
            <a:ext cx="27432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DOING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2743200" y="236592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2438280" y="457200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886200" y="4701240"/>
            <a:ext cx="1219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410080" y="472788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4038480" y="5539320"/>
            <a:ext cx="3505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FLY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2" name="Object 23" descr=""/>
          <p:cNvPicPr/>
          <p:nvPr/>
        </p:nvPicPr>
        <p:blipFill>
          <a:blip r:embed="rId1"/>
          <a:stretch/>
        </p:blipFill>
        <p:spPr>
          <a:xfrm>
            <a:off x="9144000" y="0"/>
            <a:ext cx="2133720" cy="197316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24" descr=""/>
          <p:cNvPicPr/>
          <p:nvPr/>
        </p:nvPicPr>
        <p:blipFill>
          <a:blip r:embed="rId2"/>
          <a:stretch/>
        </p:blipFill>
        <p:spPr>
          <a:xfrm>
            <a:off x="10820520" y="0"/>
            <a:ext cx="2133360" cy="197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watching-tv"/>
          <p:cNvPicPr/>
          <p:nvPr/>
        </p:nvPicPr>
        <p:blipFill>
          <a:blip r:embed="rId1"/>
          <a:stretch/>
        </p:blipFill>
        <p:spPr>
          <a:xfrm>
            <a:off x="6810480" y="0"/>
            <a:ext cx="2333520" cy="21258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ROLLER-BLADIG"/>
          <p:cNvPicPr/>
          <p:nvPr/>
        </p:nvPicPr>
        <p:blipFill>
          <a:blip r:embed="rId3"/>
          <a:stretch/>
        </p:blipFill>
        <p:spPr>
          <a:xfrm>
            <a:off x="7238880" y="3809880"/>
            <a:ext cx="1636920" cy="2667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0" y="2489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JACK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300720" y="274212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LICE AND BE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562720" y="502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MAND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2195640" y="281160"/>
            <a:ext cx="5181480" cy="6172200"/>
            <a:chOff x="2195640" y="281160"/>
            <a:chExt cx="5181480" cy="6172200"/>
          </a:xfrm>
        </p:grpSpPr>
        <p:sp>
          <p:nvSpPr>
            <p:cNvPr id="211" name="AutoShape 24"/>
            <p:cNvSpPr/>
            <p:nvPr/>
          </p:nvSpPr>
          <p:spPr>
            <a:xfrm>
              <a:off x="2195640" y="281160"/>
              <a:ext cx="5181480" cy="6172200"/>
            </a:xfrm>
            <a:prstGeom prst="irregularSeal2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3676680" y="2109240"/>
              <a:ext cx="19616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3840120" y="2795040"/>
              <a:ext cx="156960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4" name="Text Box 27"/>
            <p:cNvSpPr/>
            <p:nvPr/>
          </p:nvSpPr>
          <p:spPr>
            <a:xfrm>
              <a:off x="3601800" y="3480840"/>
              <a:ext cx="1884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3357360" y="4090680"/>
              <a:ext cx="2433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8"/>
          <p:cNvSpPr/>
          <p:nvPr/>
        </p:nvSpPr>
        <p:spPr>
          <a:xfrm>
            <a:off x="3733920" y="5324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2209680" y="258840"/>
            <a:ext cx="1828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133720" y="38052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Jack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733920" y="304200"/>
            <a:ext cx="502920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playing footbal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ROLLER-BLADIG"/>
          <p:cNvPicPr/>
          <p:nvPr/>
        </p:nvPicPr>
        <p:blipFill>
          <a:blip r:embed="rId1"/>
          <a:stretch/>
        </p:blipFill>
        <p:spPr>
          <a:xfrm>
            <a:off x="7010280" y="3886200"/>
            <a:ext cx="1636920" cy="2666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04920" y="4730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00"/>
                </a:solidFill>
                <a:latin typeface="Times New Roman"/>
              </a:rPr>
              <a:t>Mand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133720" y="48758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362320" y="4730400"/>
            <a:ext cx="4572000" cy="8251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 roller-blad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90720" y="1113840"/>
            <a:ext cx="7162560" cy="3750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0" spc="-1" strike="noStrike">
                <a:solidFill>
                  <a:srgbClr val="ffff00"/>
                </a:solidFill>
                <a:latin typeface="Times New Roman"/>
              </a:rPr>
              <a:t>DOING THINGS</a:t>
            </a:r>
            <a:endParaRPr b="1" lang="en-US" sz="12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watching-tv"/>
          <p:cNvPicPr/>
          <p:nvPr/>
        </p:nvPicPr>
        <p:blipFill>
          <a:blip r:embed="rId1"/>
          <a:stretch/>
        </p:blipFill>
        <p:spPr>
          <a:xfrm>
            <a:off x="6400800" y="304920"/>
            <a:ext cx="2333520" cy="2125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-228600" y="5328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Ben and Alic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191120" y="5774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62520" y="532800"/>
            <a:ext cx="182880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ar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601280"/>
            <a:ext cx="403848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watching TV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6"/>
          <p:cNvGrpSpPr/>
          <p:nvPr/>
        </p:nvGrpSpPr>
        <p:grpSpPr>
          <a:xfrm>
            <a:off x="2286000" y="0"/>
            <a:ext cx="5181480" cy="6172200"/>
            <a:chOff x="2286000" y="0"/>
            <a:chExt cx="5181480" cy="6172200"/>
          </a:xfrm>
        </p:grpSpPr>
        <p:sp>
          <p:nvSpPr>
            <p:cNvPr id="231" name="AutoShape 3"/>
            <p:cNvSpPr/>
            <p:nvPr/>
          </p:nvSpPr>
          <p:spPr>
            <a:xfrm>
              <a:off x="2286000" y="0"/>
              <a:ext cx="5181480" cy="6172200"/>
            </a:xfrm>
            <a:prstGeom prst="irregularSeal2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3524400" y="2108880"/>
              <a:ext cx="19620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3687840" y="2794680"/>
              <a:ext cx="156996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3449520" y="3480480"/>
              <a:ext cx="1884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3205080" y="4090320"/>
              <a:ext cx="2433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pic>
        <p:nvPicPr>
          <p:cNvPr id="236" name="Object 17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8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9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20" descr=""/>
          <p:cNvPicPr/>
          <p:nvPr/>
        </p:nvPicPr>
        <p:blipFill>
          <a:blip r:embed="rId4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1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9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0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3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8600" y="4248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Mrs. Bell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048120" y="4568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ff33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048120" y="456840"/>
            <a:ext cx="29718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is talking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1066680" y="15678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on the phone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962520" y="3701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Jo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5105520" y="3733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5105520" y="3657240"/>
            <a:ext cx="36576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is ski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11" descr=""/>
          <p:cNvPicPr/>
          <p:nvPr/>
        </p:nvPicPr>
        <p:blipFill>
          <a:blip r:embed="rId3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905120" y="8820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Ro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57600" y="9140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733920" y="920160"/>
            <a:ext cx="335268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studying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4920" y="38858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Mr. Foster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657600" y="396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3733920" y="3968280"/>
            <a:ext cx="274320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fish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04920" y="227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M</a:t>
            </a:r>
            <a:r>
              <a:rPr b="1" lang="sl-SI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sl-SI" sz="32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134136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I                  listening to the teache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Sam                  playing with a toy-ca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Julie and Ann               writing a note to Fred.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dog                 waiting for m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Harry and John                reading a magazin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parents                 wor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rs. Green                   coo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009800" y="1424520"/>
            <a:ext cx="895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819520" y="502848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1371600" y="2132640"/>
            <a:ext cx="1065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057400" y="3504240"/>
            <a:ext cx="838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353400" y="426636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3124800" y="281844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819520" y="579024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523880" y="456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MAKE SENTENCES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0" y="110808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ohn                                 . (SWIM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Mary                                a letter. (WRIT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ulie and Sue                                 the kitchen. (CLEAN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Gary                               a shower. (HAV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ill                                  up. (WASH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e                                    . (STUDY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phone                                    . (RING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523880" y="108252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523880" y="114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swimm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600200" y="1904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rit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666880" y="25898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clean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95280" y="3809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hav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914400" y="4571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ash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295280" y="5257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study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438280" y="60188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ring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0" y="1767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9900"/>
                </a:solidFill>
                <a:latin typeface="American Classic"/>
              </a:rPr>
              <a:t>Are you listen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0" y="2377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996633"/>
                </a:solidFill>
                <a:latin typeface="American Classic"/>
              </a:rPr>
              <a:t>Are you study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0" y="3749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800000"/>
                </a:solidFill>
                <a:latin typeface="American Classic"/>
              </a:rPr>
              <a:t>Is the bell ring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0" y="3063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3300"/>
                </a:solidFill>
                <a:latin typeface="American Classic"/>
              </a:rPr>
              <a:t>Is your teacher talk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0" y="39636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800" spc="-1" strike="noStrike">
                <a:solidFill>
                  <a:srgbClr val="ff0000"/>
                </a:solidFill>
                <a:latin typeface="Times New Roman"/>
              </a:rPr>
              <a:t>And what are you doing now?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-685800" y="1065960"/>
            <a:ext cx="10667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99ff33"/>
                </a:solidFill>
                <a:latin typeface="Times New Roman"/>
              </a:rPr>
              <a:t>NOW</a:t>
            </a:r>
            <a:endParaRPr b="1" lang="en-US" sz="305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304920"/>
          <a:ext cx="513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513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5"/>
          <p:cNvSpPr/>
          <p:nvPr/>
        </p:nvSpPr>
        <p:spPr>
          <a:xfrm>
            <a:off x="4191120" y="304920"/>
            <a:ext cx="472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WHAT IS BEN DOING?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727440" y="2819520"/>
            <a:ext cx="844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HE</a:t>
            </a:r>
            <a:r>
              <a:rPr b="1" lang="sl-SI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495680" y="2819520"/>
            <a:ext cx="46483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IS PLAYING FOOTBALL.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10080" y="421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1"/>
          <p:cNvSpPr/>
          <p:nvPr/>
        </p:nvSpPr>
        <p:spPr>
          <a:xfrm>
            <a:off x="2895480" y="1981080"/>
            <a:ext cx="6248520" cy="1752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95480" y="228600"/>
            <a:ext cx="6248520" cy="1676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5257800" y="2895480"/>
            <a:ext cx="32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VOLLEYBALL 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267080" y="22096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 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572000" y="609480"/>
            <a:ext cx="1447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71800" y="1219320"/>
            <a:ext cx="1981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38280" cy="2355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971800" y="609480"/>
            <a:ext cx="1447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609480"/>
            <a:ext cx="28954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LUCY AND RO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80880" y="3886200"/>
            <a:ext cx="335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75760" y="2208960"/>
            <a:ext cx="1125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0"/>
          <p:cNvSpPr/>
          <p:nvPr/>
        </p:nvSpPr>
        <p:spPr>
          <a:xfrm>
            <a:off x="3200400" y="2133720"/>
            <a:ext cx="5943600" cy="1447560"/>
          </a:xfrm>
          <a:custGeom>
            <a:avLst/>
            <a:gdLst>
              <a:gd name="textAreaLeft" fmla="*/ 170280 w 5943600"/>
              <a:gd name="textAreaRight" fmla="*/ 5773320 w 594360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886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72" y="21600"/>
                </a:lnTo>
                <a:arcTo wR="3600" hR="3600" stAng="10800000" swAng="5400000"/>
                <a:lnTo>
                  <a:pt x="8867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2590920" y="380880"/>
            <a:ext cx="5943600" cy="1447920"/>
          </a:xfrm>
          <a:custGeom>
            <a:avLst/>
            <a:gdLst>
              <a:gd name="textAreaLeft" fmla="*/ 170640 w 5943600"/>
              <a:gd name="textAreaRight" fmla="*/ 5772960 w 594360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886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50" y="21600"/>
                </a:lnTo>
                <a:arcTo wR="3600" hR="3600" stAng="10800000" swAng="5400000"/>
                <a:lnTo>
                  <a:pt x="88650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32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726440" y="913320"/>
            <a:ext cx="190728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WHIT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21320" y="913320"/>
            <a:ext cx="11455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116960" y="913320"/>
            <a:ext cx="4687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59800" y="913320"/>
            <a:ext cx="13665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809880" y="2589840"/>
            <a:ext cx="62388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955040" y="2589840"/>
            <a:ext cx="4687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867280" y="2589840"/>
            <a:ext cx="17528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UNN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8"/>
          <p:cNvSpPr/>
          <p:nvPr/>
        </p:nvSpPr>
        <p:spPr>
          <a:xfrm>
            <a:off x="2819520" y="2438280"/>
            <a:ext cx="6095880" cy="1905120"/>
          </a:xfrm>
          <a:prstGeom prst="flowChartPunchedTap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06880" cy="3124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320" y="395928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OG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2819520" y="228600"/>
            <a:ext cx="6095880" cy="1905120"/>
          </a:xfrm>
          <a:prstGeom prst="flowChartPunchedTap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2897280" y="761040"/>
            <a:ext cx="5844240" cy="1145520"/>
            <a:chOff x="2897280" y="761040"/>
            <a:chExt cx="5844240" cy="1145520"/>
          </a:xfrm>
        </p:grpSpPr>
        <p:sp>
          <p:nvSpPr>
            <p:cNvPr id="91" name="Text Box 4"/>
            <p:cNvSpPr/>
            <p:nvPr/>
          </p:nvSpPr>
          <p:spPr>
            <a:xfrm>
              <a:off x="5188320" y="761040"/>
              <a:ext cx="355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66"/>
                  </a:solidFill>
                  <a:latin typeface="Times New Roman"/>
                </a:rPr>
                <a:t>MR. AND MRS. DAVIES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2897280" y="7610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WHAT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4194360" y="761040"/>
              <a:ext cx="82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ff"/>
                  </a:solidFill>
                  <a:latin typeface="Times New Roman"/>
                </a:rPr>
                <a:t>ARE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3657600" y="1446840"/>
              <a:ext cx="1370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DOING?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3050280" y="289440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6640" y="2894400"/>
            <a:ext cx="8222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094640" y="3427920"/>
            <a:ext cx="39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OGGING AND TALK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5"/>
          <p:cNvSpPr/>
          <p:nvPr/>
        </p:nvSpPr>
        <p:spPr>
          <a:xfrm>
            <a:off x="3429000" y="1905120"/>
            <a:ext cx="5715000" cy="16002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3429000" y="0"/>
            <a:ext cx="5715000" cy="1600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86080" cy="3351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32200" y="38070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888520" y="608400"/>
            <a:ext cx="1346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MA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18000" y="608400"/>
            <a:ext cx="1182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7680" y="60840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545240" y="608400"/>
            <a:ext cx="1370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7480" y="251352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22080" y="251352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937920" y="2513520"/>
            <a:ext cx="1694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READ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200400" y="380880"/>
            <a:ext cx="571500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006720" cy="2462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3655080"/>
            <a:ext cx="426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641200" y="608400"/>
            <a:ext cx="97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I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35720" y="608400"/>
            <a:ext cx="1145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031360" y="60840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745680" y="608400"/>
            <a:ext cx="1442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200400" y="2057400"/>
            <a:ext cx="57150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582720" y="2284920"/>
            <a:ext cx="6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45560" y="228492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876920" y="2284920"/>
            <a:ext cx="1217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173640" y="2284920"/>
            <a:ext cx="70668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581280" y="2818440"/>
            <a:ext cx="222300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OMEWORK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8:59:38Z</dcterms:created>
  <dc:creator>Danica</dc:creator>
  <dc:description/>
  <dc:language>en-US</dc:language>
  <cp:lastModifiedBy>Dan Humm Soriano</cp:lastModifiedBy>
  <dcterms:modified xsi:type="dcterms:W3CDTF">2020-10-05T09:59:29Z</dcterms:modified>
  <cp:revision>10</cp:revision>
  <dc:subject/>
  <dc:title>No Slide Title</dc:title>
</cp:coreProperties>
</file>