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FF45-F233-4B7C-9100-5433533091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02FC-5DD1-4305-BC31-A05A7719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189B-0DCB-4151-A9D7-C6B8906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93E8-02B4-4A26-9B84-22FEA3B55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D710-B6E0-4CBA-AF6E-6A66A144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59DE-2528-43BD-AAB9-C17DDB1B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4438-9778-45D3-905F-FF68F50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092C-391D-4030-9BD4-F18E7D39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E3BF-6A62-418D-80EC-0187369F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6BE7-7944-4C4E-A264-691F2C31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8E0F-F6C7-4169-BBB4-09DC3740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7288-2430-404E-BB5C-E76B3EE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F0D6-F336-44FA-AB24-0827F0161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, match the part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n ox-bow lake is form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4:29Z</dcterms:modified>
  <cp:revision>46</cp:revision>
  <dc:subject/>
  <dc:title>  </dc:title>
</cp:coreProperties>
</file>