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39B98-13B4-440F-86E1-3EAF57423B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A294B-86DD-4F05-95ED-A138921D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1A096-4F01-4F88-B8D4-F7AA7B99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BEFD8-AE4C-4CF7-B6FF-F59D17F369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59593-1B3D-4330-A526-89330F8E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37CAD-287A-493A-8459-78A46BC4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FB9DC-4EFE-4812-A504-E0478627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E1D76-235D-49E7-B377-453C4EF2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0471B-8C8E-439C-95B1-8D40EE39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61BC-74EB-4076-B9AD-1CD49840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926F-F282-4527-905A-53DEFCA7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DF70-FB9D-476D-BBBE-5185369D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291D-4680-4FD5-B1F0-3AD0BAC6B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onestopenglish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iv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estopenglish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Keith Ke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10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Do exercise 1 on the worksheet: label the dia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, match the parts of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he PPT template to practice talking about how an ox-bow lake is form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l.williams</cp:lastModifiedBy>
  <dcterms:modified xsi:type="dcterms:W3CDTF">2010-09-02T12:14:29Z</dcterms:modified>
  <cp:revision>46</cp:revision>
  <dc:subject/>
  <dc:title>  </dc:title>
</cp:coreProperties>
</file>