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59F0B8-33CF-4BE0-B286-C536F723E1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EAFAD8F-4390-4EBA-B28E-087605BA3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2B39D84-2663-4DFE-BFE7-603C44139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5224B27-59BD-45A0-ACCF-52C80EC2EAC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91ADE0-CB14-4B71-A7BB-6790FAD08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B3BEE-FA5A-4EB4-A418-29FA3E0C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FB2C522-6054-444A-BEC4-200AC086B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E68714D-ABD0-42BA-B15C-280E9B708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E1D0ED-B869-4AA6-823A-1EA50B57F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9F3639-0986-4136-B13B-22A1BE36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AEB3645-551D-4EC4-BD76-1CEDBA7C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2AB7CD9-FA15-4C2F-B447-06935D4C03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4D82-EE05-4228-98E4-45B21E965CB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Natural Resources</a:t>
            </a:r>
            <a:br>
              <a:rPr sz="5400"/>
            </a:br>
            <a:r>
              <a:rPr b="1" lang="en-GB" sz="5400" spc="-1" strike="noStrike">
                <a:solidFill>
                  <a:srgbClr val="000000"/>
                </a:solidFill>
                <a:latin typeface="Arial"/>
              </a:rPr>
              <a:t>(the water cycle)</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water cycle.  In pairs, take turns, one talks the other listens, then swap roles.  In groups, use the template to help you prepare a presentation on the water cyc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4:00Z</dcterms:modified>
  <cp:revision>44</cp:revision>
  <dc:subject/>
  <dc:title>  </dc:title>
</cp:coreProperties>
</file>