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BE4F9C-C694-4B30-8FE8-A1B79609B02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DFBEF5C-E05A-4D48-99F8-FF47CACB6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F4CB9C9-9BD4-4A57-B3DD-19B80248B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D55C7C5-7739-455C-8F31-DF1C30D972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A2C1E4-5EDF-4A40-AAAE-7D6B3BD08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A17539-8094-48A3-9000-21906C044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A06D88-5874-4F8A-943D-59068F3DE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BE45CFB-3A90-48E2-BBAF-0033B589A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102B7EE-E83A-433F-AA23-5DF84D44D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212F34-5628-49EF-9D11-AC11579B2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3CE987B-CACD-4E06-8E88-7BDAEFAA0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BC2F9E-1CC0-4A9E-B472-EC40A302CB3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EF5B-AEB4-4E12-B500-134E0CF3C7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Natural Resources</a:t>
            </a:r>
            <a:br>
              <a:rPr sz="5400"/>
            </a:br>
            <a:r>
              <a:rPr b="1" lang="en-GB" sz="5400" spc="-1" strike="noStrike">
                <a:solidFill>
                  <a:srgbClr val="000000"/>
                </a:solidFill>
                <a:latin typeface="Arial"/>
              </a:rPr>
              <a:t>(the water cycle)</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water cycle.  In pairs, take turns, one talks the other listens, then swap roles.  In groups, use the template to help you prepare a presentation on the water cyc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4:00Z</dcterms:modified>
  <cp:revision>44</cp:revision>
  <dc:subject/>
  <dc:title>  </dc:title>
</cp:coreProperties>
</file>