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03386F-9691-4C8B-B1AF-7FA461639E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35094D-55A0-4AE5-8268-81B026CEA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4F36D61-4A43-4CB5-A349-1ADC0DBCF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DB426C-B1D9-41F9-92C3-DCC64C39C6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05A3E3-AD7C-4FEF-BD0B-E5CEC76D6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43271-868B-4A89-98C6-16873ED88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24C43AD-6446-41C2-9F79-358FFC41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7FD7222-2375-4AB9-9425-24AEFCE84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FA3C70-3CEC-4ED3-95C3-89675D6D8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C6BFD0-41A5-442F-B35A-D3DAD2788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5876A05-7404-411B-8026-D2DC727A5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63003CE-98B6-47DF-860F-04941AB7A5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7992-2F28-4520-A858-2D2DF95C07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condary Economic Activity</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secondary economic activity.  In pairs, take turns, one talks the other listens, then swap roles.  In groups, use the template to help you prepare a presentation on the secondary economic activ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1:59Z</dcterms:modified>
  <cp:revision>44</cp:revision>
  <dc:subject/>
  <dc:title>  </dc:title>
</cp:coreProperties>
</file>