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EE0A9C-8C6F-4B04-BDFE-66640CBA1E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C554A4-4D5F-4C50-81A3-1F1FE1366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5B38508-38C4-4AFC-B24D-A1F353A8B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8E6D532-9F5D-4797-846A-58EDB0D9F0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BCF4EF-855C-4E54-B174-AD33F224D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DDB047-CF68-4F1E-84AC-171E97C86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C3AACA-FD02-4C78-9A25-73D1C8A20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BA742D7-761A-4BA6-A92A-6B23EC1EE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2345A3D-6681-438C-9EA1-2E73A4153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87407D2-E4A8-42B9-AC52-18A4BD6C3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6EED109-2806-4458-83B3-9B22A30DE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ADB26F-39A1-4217-8963-FF4153787FA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4143-8D5F-45CF-B10F-5FD471A8CAB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condary Economic Activity</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secondary economic activity.  In pairs, take turns, one talks the other listens, then swap roles.  In groups, use the template to help you prepare a presentation on the secondary economic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1:59Z</dcterms:modified>
  <cp:revision>44</cp:revision>
  <dc:subject/>
  <dc:title>  </dc:title>
</cp:coreProperties>
</file>