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6AD7F7-AF32-46B3-87E7-2A8CA78053B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4F83631-77F7-4F8D-B357-56882B2D9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42C39FD-505D-4DF4-BCD1-D9CE8EBDC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E4A0FBF-BE9F-4915-B86A-9602915097C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1B3C80-91E9-4E8D-823A-B8CC335BC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DAA7CC-E7F6-44AD-A712-BBC258DFB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3BD9003-A23C-4C87-92EF-EB5F1FAD3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F8B5FEA-AA59-40DF-81B0-525A47DCA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464F3B2-E42F-40A4-AB53-9220B1276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1F303A8-A250-4763-B8CA-FB93326B8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163BA02-793F-4910-A6F3-4A9A68EAA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C205CE7-3341-4BAB-BA82-CF72B573670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A289-E601-4A73-99CE-86063CE4F3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nvironment</a:t>
            </a:r>
            <a:br>
              <a:rPr sz="5400"/>
            </a:br>
            <a:r>
              <a:rPr b="1" lang="en-US" sz="5400" spc="-1" strike="noStrike">
                <a:solidFill>
                  <a:srgbClr val="000000"/>
                </a:solidFill>
                <a:latin typeface="Arial"/>
              </a:rPr>
              <a:t>(acid rain)</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55164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55164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the environment.  In pairs, take turns, one talks the other listens, then swap roles.  In groups, use the template to help you prepare a presentation on the enviro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17:05Z</dcterms:modified>
  <cp:revision>44</cp:revision>
  <dc:subject/>
  <dc:title>  </dc:title>
</cp:coreProperties>
</file>