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304E95-0AD1-478A-9163-3C9480C4B24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83A1106-A238-4DFB-9DD3-8D1607DD8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E055AA4-B8EE-4481-A210-6714C3002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32EBBB7-CC65-434D-A637-70BC377501C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A4877A-F978-4E3B-9091-9250833A4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DC5597-37FE-4E18-B815-CA015E648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4BB36CE-3B34-418A-94BC-9CC7C8627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2DB52A59-089C-48F8-B81D-AA6FC1DB6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CB72B28-A4F6-4202-A228-BBD07F416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6B5CB79-9DFB-4B62-AFF8-EF0ECB886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379F1D4-FF43-4FF7-B9CD-95CAFD7C2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3FC2765-80DC-4154-A7D4-49CBC42664E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8954-CE68-469F-81AB-F0BAC1792BE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a action</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48036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48036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longshore drift.  In pairs, take turns, one talks the other listens, then swap roles.  In groups, use the template to help you prepare a presentation on longshore drif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17:29Z</dcterms:modified>
  <cp:revision>42</cp:revision>
  <dc:subject/>
  <dc:title>  </dc:title>
</cp:coreProperties>
</file>