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485FD3-1C5B-4C96-9A24-6D3BC36DCFE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5C431EA-D611-4C3E-864D-0C8A9672F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1D72DC0-60F1-44D9-AECA-A66E6B373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C02B184-C0BA-491F-8CBD-0765C90837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E2DA30-B5C0-4805-8919-5107C6145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13407D-0D51-4D04-8238-EF54F25C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44A3ACC-1118-46FC-A9C4-A44357CD2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45481D6-3828-400B-AB9E-D58D452BA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BBD63B8-65CE-4D9B-A2C4-BDE02C551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56CB7A0-4E59-4088-B33C-B6C83E6B9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D4FFCD-4E30-40AC-A3B1-96945155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7503A5-0BD5-4B2A-A7E0-C535CEC821E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6B4F-9A70-422F-B91B-508FA6C5801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a actio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longshore drift.  In pairs, take turns, one talks the other listens, then swap roles.  In groups, use the template to help you prepare a presentation on longshore dri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29Z</dcterms:modified>
  <cp:revision>42</cp:revision>
  <dc:subject/>
  <dc:title>  </dc:title>
</cp:coreProperties>
</file>