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4F49A6-3366-46C7-88C1-E96F8FD93A8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1B80DC5-4EBD-49A2-983A-C96D0A618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1FCFAD8-CE0C-4A8D-B20E-15F0C6FDE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9294504-1155-49F9-9EE8-40531F6B63E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2E511B-43C4-4B99-8588-6798CF4A6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F9343D-164C-4F06-BB5A-E16745D6B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9993FAF-097B-453A-8241-AF717922D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209C5356-EB2D-4EB8-837E-B6BB1AD02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B7831A0-E8AE-4703-B775-4B6A28AC3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957AFB3-E5C7-4E76-9F94-3928A3E25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827F69B-4FC4-47CE-8B3D-70C7D06E1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A3D5CC2-DF54-4B12-994F-339CF0720BD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56A67-A24C-480B-AE81-47F1B23DA9F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ea action</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48036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48036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longshore drift.  In pairs, take turns, one talks the other listens, then swap roles.  In groups, use the template to help you prepare a presentation on longshore drif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17:29Z</dcterms:modified>
  <cp:revision>42</cp:revision>
  <dc:subject/>
  <dc:title>  </dc:title>
</cp:coreProperties>
</file>