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A221-00E1-4DF5-8684-16D9AB299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4072-C569-4266-A2D2-09D1D78F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1FF1-9873-4B07-AFDD-0908C49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D323-0125-429D-85FC-BA3DAC5CA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30FC-D6F4-4439-8DE5-2FFCA6F9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4D3F-B77A-4B74-AC21-21CF66C9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EBA6-CC6E-470A-AFFB-BF961627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1567-05E1-4E3C-ABB0-BA9C8848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D9B1-D94A-4D99-8334-E7E27EF8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4B4D-51D8-4AB0-9FDC-0B536F45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CAA26-685D-4BA8-AAB2-9560DCDA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43F5-9428-4130-A908-9D8BEEB1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0E9C-B99B-404C-BF2F-F3F56F37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an engine work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check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join the phrases to show the correct sequence of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06Z</dcterms:modified>
  <cp:revision>26</cp:revision>
  <dc:subject/>
  <dc:title>  </dc:title>
</cp:coreProperties>
</file>