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E6405-C7DE-4F19-9BE6-83FB938B47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BF01-A2C7-4951-8E79-FB75FFE7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3F49-00EA-4614-BDA0-FBE3D28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BF49-5118-4BA3-AAC6-FBBE69DF53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64CED-9816-4AC8-875C-54A59332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E295-82D4-4B9B-8122-54944990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F838-9A08-40F1-AB51-7B0617EC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B729-1FC8-41DA-A69E-F23E93B2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F02E-1979-49E9-B993-26784EBE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6DAA-F1CE-4FDF-851C-80DD72C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FDC7-77B6-4666-AAC4-8231D9DA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1F01-D35A-4AD4-B4F5-CD1C3E75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48BF-F23D-46F1-8976-A805A98B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an engine work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check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join the phrases to show the correct sequence of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06Z</dcterms:modified>
  <cp:revision>26</cp:revision>
  <dc:subject/>
  <dc:title>  </dc:title>
</cp:coreProperties>
</file>