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DEBB-35E4-41D8-AFAD-ED4621D5E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0B29-303C-4936-8DFE-349BB58E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31AD-8947-4C74-9FD6-CB365208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FB59-D9E0-4A09-9180-D215C25618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4373-2E55-411B-84A1-883ED1A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1527-58FD-4E48-BB3D-FC54315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BF6C-E4E9-43F7-8C20-53EFD73B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7570-CF51-4B41-9D07-40957BD9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2F09-99DB-4A86-9E38-428B0D2F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C9F9-E725-44FB-AB99-EF9E5455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2F5C-E014-4858-AB01-60D5C596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8777-2BA7-485A-8C7D-903E610F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6D2-599E-4249-B579-AB7337B4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ug batte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a diagram of a bug bat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 labelled the diagram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6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6:30Z</dcterms:modified>
  <cp:revision>31</cp:revision>
  <dc:subject/>
  <dc:title>  </dc:title>
</cp:coreProperties>
</file>