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AF93F-315B-42C5-89F6-B118776396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93C76-74D2-4169-A34C-5BEBC49F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72E3E-1029-4CDC-821A-B19BB226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5F86F-5A47-4E9F-A967-4810EE245B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52971-02A3-41F9-B37F-E0A46761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973E5-E402-4BB7-836D-79A7D7CD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8E893-4765-4C6C-B9FF-4DB28E3A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5F954-5F5C-4520-B676-18FC8323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20EAD-77E0-41B1-968D-B675E976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F0EF2-45D5-4FD0-90A7-6A0B4A72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68391-7221-48FC-9813-858659E8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186A4-24A5-47E5-B356-4AAD5130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7A31-78E6-461B-8D39-C0BE0E310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Bug batte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a diagram of a bug batt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if you labelled the diagram cor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two parts of each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write the number of the correct sentence next to each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</a:t>
            </a:r>
            <a:br>
              <a:rPr sz="6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6:30Z</dcterms:modified>
  <cp:revision>31</cp:revision>
  <dc:subject/>
  <dc:title>  </dc:title>
</cp:coreProperties>
</file>