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63201-27A6-40E8-8BF0-A765EBC288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C34B8-8966-4821-AB61-7AC8601A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F557A-B7EF-4A83-8F4F-CED425E6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03D79-7594-4330-A227-B3B6F3BF7D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B2072-8F59-4053-9873-F10AA7D6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38D2C-D1BF-46F3-9130-14844AFF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471D-14C9-4518-A8E8-E038E9D5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832E-A4E4-45CB-819B-4FF44C9A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24BEF-3B72-4CF1-A356-6D3A4558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F1108-DCC0-4E0B-A06C-7313869A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71735-15F8-42BA-8584-A09A3D1A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80825-D3DD-48AC-AD76-2302485C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0CA2-704D-4A76-8D92-6DAA5D753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uel cell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what you know about fuel cells and how they work. Try to answer the questions in exercise 1 on th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listen for the answers to the questions in exercise 1 on th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your answers in your pair/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captions with the correct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7:38Z</dcterms:modified>
  <cp:revision>35</cp:revision>
  <dc:subject/>
  <dc:title>  </dc:title>
</cp:coreProperties>
</file>