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2F1E71-A5E1-47F9-BB9C-74B2D05FEA8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E371C5-E1B0-4426-8376-102977823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6D0AA0-5F5C-4296-AD91-195A21CD4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AD4031-444B-4486-858D-9AB08C8FB3C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D3D626-2BE9-4CB2-A693-771384492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4302BD-0BAF-428D-9C61-291A4CEA7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F83FC8-B21E-4BF7-868D-E9AE18541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FEF664-D9F2-4A4E-88F4-21BF793C7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485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8AB8E8-9EF8-4A5B-858E-43817BD00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6C8F36-FACB-40E2-B9FF-4C7518DC0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A3A66D-0F93-4444-90AD-67A4906EF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5CB009-758D-4F99-9FF4-FC4837D25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4AB7A-E147-459F-94BC-B91D537234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onestopclil.com/" TargetMode="External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Fuel cell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6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2920" y="6400800"/>
            <a:ext cx="8893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This PowerPoint presentation has been downloaded from </a:t>
            </a: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onestopclil.com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. Presentation written by John Clegg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© Copyright Macmillan Publishers Ltd 2008.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nimation licensed by The Science Museum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Before you wa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iscuss what you know about fuel cells and how they work. Try to answer the questions in exercise 1 on the workshe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a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atch the animation and listen for the answers to the questions in exercise 1 on the workshe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heck your answers in your pair/grou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ShockwaveFlash1"/>
          <p:cNvGraphicFramePr/>
          <p:nvPr/>
        </p:nvGraphicFramePr>
        <p:xfrm>
          <a:off x="0" y="0"/>
          <a:ext cx="9142560" cy="685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2560" cy="68565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After you wa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 exercise 2 on the worksheet: match the captions with the correct pict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exercise 3 on the worksheet: complete the gap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esentation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for classes working in groups onl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 an oral commentary on the anim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8T12:15:46Z</dcterms:created>
  <dc:creator>Macmillan Staff Member</dc:creator>
  <dc:description/>
  <dc:language>en-US</dc:language>
  <cp:lastModifiedBy>Macmillan Staff Member</cp:lastModifiedBy>
  <dcterms:modified xsi:type="dcterms:W3CDTF">2008-09-15T08:07:38Z</dcterms:modified>
  <cp:revision>35</cp:revision>
  <dc:subject/>
  <dc:title>  </dc:title>
</cp:coreProperties>
</file>