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3B0E-96BF-44FA-9F49-514D7BCF94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C2E0-9719-4589-92E4-811B3304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5A22-8E64-4048-9133-84823AE0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53ED-655C-4448-9DA7-D3D79F1201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2A55-27DB-4551-9BD9-D2D33891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CC38B-5BEB-45C1-89DA-46349E31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0864-6524-47FF-BC00-FBC2271B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AE3F-C4CC-45CC-889F-4776BD40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F953-3127-47EF-97F1-2CE22792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16D0-EF00-4749-A552-8C23039D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7167-7A09-47A6-8FBB-D6AE82E2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783A-BA60-4E7C-81AE-CB93FACD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9750-758D-40B0-BB44-7FC659328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uel cel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what you know about fuel cells and how they work. Try to answer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listen for the answers to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your pai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38Z</dcterms:modified>
  <cp:revision>35</cp:revision>
  <dc:subject/>
  <dc:title>  </dc:title>
</cp:coreProperties>
</file>