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22E46D-1F0E-4701-B6D4-ABADCBA7F18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662959-11E0-466B-9AD8-17EBF68F3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10C865-8065-42FB-ABE4-515612C0A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8AAD1C-2C5A-4C24-B0B6-150667F59BC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FCD99D-7533-4EFF-B54B-8218666D3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007606-699E-4C7F-A634-F38522652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784C76-68D7-48E7-A823-EF2BCB350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9EC435-0105-4CAF-8185-D6468C032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485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3D0715-C3DB-4C5F-B111-886A7BF2A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CDDEE8-1F4D-4DFF-A8F1-F5B6D165A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AC4E24-E2BA-456E-A061-908A30F90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1B6321-6597-4C31-9416-20CAC3322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21F7D-497B-4E80-A8A6-916F3BB41A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Biomass power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6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2920" y="6400800"/>
            <a:ext cx="8893080" cy="5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is PowerPoint presentation has been downloaded from www.onestopclil.com. Presentation written by John Clegg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Copyright Macmillan Publishers Ltd 2008. Animation licensed by The Science Museum.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Before you wa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swer these ques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at is biomass?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ow is it used to make electricity?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es it add to climate chang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a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tch the animation and answer the questions from slide 1. (Make notes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ShockwaveFlash1"/>
          <p:cNvGraphicFramePr/>
          <p:nvPr/>
        </p:nvGraphicFramePr>
        <p:xfrm>
          <a:off x="0" y="0"/>
          <a:ext cx="9142560" cy="685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2560" cy="68565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After you wa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heck your answers in group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 exercise 1 on the worksheet: match the two parts of each sente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 exercise 2 on the worksheet: use the prompts to write sentenc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esentation 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for classes working in groups onl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 an oral commentary on the anim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8T12:15:46Z</dcterms:created>
  <dc:creator>Macmillan Staff Member</dc:creator>
  <dc:description/>
  <dc:language>en-US</dc:language>
  <cp:lastModifiedBy>Macmillan Staff Member</cp:lastModifiedBy>
  <dcterms:modified xsi:type="dcterms:W3CDTF">2008-09-15T08:05:59Z</dcterms:modified>
  <cp:revision>35</cp:revision>
  <dc:subject/>
  <dc:title>  </dc:title>
</cp:coreProperties>
</file>