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FDE1D-9549-434C-8895-30E60BFDD3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64DA2-3AF7-4B5E-8E00-CF3BCC79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1349-AE3F-4D30-9C51-DA120043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6DF3-A550-4523-936B-292C545EA3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9395E-C96D-4F74-886A-2E6ED494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6B8C0-2A75-4AF6-AF65-B8312F3B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6A690-B255-44F3-A9A9-23755983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862E-B14D-41F8-9114-8CEEF675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FBCE-B39B-490F-BB4C-F46674AB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E8CC6-C25E-48B4-8E03-675C728D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69D7B-777C-4FB4-9042-459F2C98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83B76-7AE2-42AA-AF58-71569109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ACBB-12EA-4723-8EE2-BA0B0CFC14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ave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lk in your group and discuss how wave power generates electricity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two parts of each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sentenc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7:50Z</dcterms:modified>
  <cp:revision>32</cp:revision>
  <dc:subject/>
  <dc:title>  </dc:title>
</cp:coreProperties>
</file>