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3AB4-CE99-48A4-8F4B-38448DC9A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59DD-7868-4552-8E89-80130C9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CF8A-7B65-44AC-8DC9-8C3F593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F16D-1583-4570-AA70-379A9F3B5C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E81E-D75F-4EB9-A4CE-6E222704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6360-9C12-425B-948B-A7A95747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06DC-7225-4B1B-A0FE-36128AB9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14F5-5AFA-4ACC-A500-CEC369D6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C36B-DC9B-4679-8EC3-D0321FCC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9203-5F35-4987-B18F-8E58059E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4278-5152-4836-A90C-ADFB10D9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79DA-0324-4761-9744-74FA05EF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D1D1-A773-4C1F-96E9-0237494171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ave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ave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50Z</dcterms:modified>
  <cp:revision>32</cp:revision>
  <dc:subject/>
  <dc:title>  </dc:title>
</cp:coreProperties>
</file>