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F9C533-2838-413D-A135-E30123E8AAD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F515E3-7EB4-47E6-9257-A97298ECB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1CFD2C-8CD3-4B13-97AA-7704C237B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8579FC-F027-4364-AF10-7B249918AF5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2708C2-3AEB-427F-AA33-FA4AF1111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40F98F-FD17-4810-ADA1-F9F5C0C3F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D30117-3937-494B-9664-5F613F27E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05FA76-F1AF-48C3-9771-BD744A7FA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485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BE87C4-2C46-4E2B-91BD-12A65A01D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51D075-8562-4265-8CAF-7C9955EE3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A896AF-EAA1-483C-A972-55085871D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AB336F-BDE9-431F-AF49-F10FB1E6B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1A129-8BEE-4B4D-8A43-4D9C78962BF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onestopclil.com/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Tidal power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6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8112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0600" y="6165720"/>
            <a:ext cx="820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90600" y="6165720"/>
            <a:ext cx="828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74600" y="6165720"/>
            <a:ext cx="8713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his PowerPoint presentation has been downloaded from 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onestopclil.com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. Presentation written by John Clegg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Copyright Macmillan Publishers Ltd 2008.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nimation licensed by The Science Museum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Before you 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exercise 1 on the worksheet: talk about the picture with your group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d discuss how tidal power generates electr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42920" y="6400800"/>
            <a:ext cx="88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lay the animation and check if you described the process correctly in exercise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ShockwaveFlash1"/>
          <p:cNvGraphicFramePr/>
          <p:nvPr/>
        </p:nvGraphicFramePr>
        <p:xfrm>
          <a:off x="0" y="0"/>
          <a:ext cx="9142560" cy="685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2560" cy="68565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After you 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exercise 2 on the worksheet: write sentences using the promp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exercise 3 on the worksheet: complete the gap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esentation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for classes working in groups onl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 an oral commentary on the anim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8T12:15:46Z</dcterms:created>
  <dc:creator>Macmillan Staff Member</dc:creator>
  <dc:description/>
  <dc:language>en-US</dc:language>
  <cp:lastModifiedBy>Fabio</cp:lastModifiedBy>
  <dcterms:modified xsi:type="dcterms:W3CDTF">2008-10-31T12:08:05Z</dcterms:modified>
  <cp:revision>29</cp:revision>
  <dc:subject/>
  <dc:title>  </dc:title>
</cp:coreProperties>
</file>