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ED3B-02F6-4BB8-8389-F000C972DB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92C0-8A0A-45B0-85D8-2127E467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65691-E507-42C6-8892-290F1D07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2A6D-8267-498C-8DB8-975D7A662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DF5D-0935-4583-AF94-A8C4B9EE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F913-90A6-4793-9D1A-A33E5AF3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51DB-210D-4ECF-A856-9E88C2B4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4594-E250-45CF-A1C3-AADE8A04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1ADD-B14A-4887-90E0-3C478F6A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881E-6177-42D5-8F04-0BE10EF0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02FAD-A940-488B-B74F-3D3D7644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DF92-E1A2-4D45-9B77-38729DCB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A3D1-34B3-465A-B5CC-30BF73BB38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id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12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0600" y="616572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0600" y="616572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600" y="6165720"/>
            <a:ext cx="8713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 with your grou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iscuss how tidal power generates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2920" y="640080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y the animation and check if you described the process correctly in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8:05Z</dcterms:modified>
  <cp:revision>29</cp:revision>
  <dc:subject/>
  <dc:title>  </dc:title>
</cp:coreProperties>
</file>