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9B2C-D07A-4BDD-BBFB-1604C31FA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93D5-47F9-4729-A96E-284696CB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2BD4-FA71-4A99-B376-F01F198A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FE18-D8FE-4F71-A5F1-08FF18F2E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0DD7-9023-4533-B8CC-061FAA64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5977-7CD6-48D5-9330-CFDD1E70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8FC7-8C47-48E6-881A-66D61E82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8C95-1255-455B-A6A6-2EB8BCCD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78F4-14E0-4EEF-A0D6-2164CD72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A4CE-E225-41BE-BF4C-7551CF34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7340-3520-489C-9E8F-613324E2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95C2-21E8-4B55-8FDD-C8E99D5F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5ACE-AE4D-46C5-B298-50A9C1E2FE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in exercise 1 and explain how hydro power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17Z</dcterms:modified>
  <cp:revision>29</cp:revision>
  <dc:subject/>
  <dc:title>  </dc:title>
</cp:coreProperties>
</file>