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F52B-34E9-4A2A-8F00-CF2729370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4765-2552-4AF8-8308-F380EA43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A081-D478-4C7C-A00C-68882E0C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5EE3-6053-4208-9D0D-3A8F0524A3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417E-72F7-4DD4-9AEE-74EAE491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0CD6-63A2-4BCE-9DD5-06432B21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E199-C831-4D32-AF94-872DE519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474A-83EB-4411-8EFF-79CD8C17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2C4E-BDB1-4E91-892F-5675BD67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7B7C-B8E3-4CD0-A222-6140E41B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19A3-B5CB-4006-8ADB-AADE8E94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8D66-667D-4C2A-A91B-6F7319DB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3D15-0C97-4A7F-9144-BCD95452A3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in exercise 1 and explain how hydro power i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17Z</dcterms:modified>
  <cp:revision>29</cp:revision>
  <dc:subject/>
  <dc:title>  </dc:title>
</cp:coreProperties>
</file>