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A62E-C8CA-4F85-A518-DF1578BBDB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15FC-3FB9-41D4-9270-F8F1DAF3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C223-5678-429E-8150-23F0658C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CBC0-ED71-4E8E-9821-04592E7912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D2A8-90CB-4544-8426-E169AE8F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D686-5798-4922-9429-9F87A732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4448-9244-4FE2-A1E7-DD8D2E37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15F82-7234-4FFA-BADB-FF1DEF3B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9DFF-2914-4EF0-BF55-27820A2B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67D2-B3D7-458B-912C-04B191B6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A71C-6C47-4289-A12B-BA42558A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0C6D-C681-4A09-955F-8808784D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00A1-E68B-41AD-9045-BFC3983ED5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in exercise 1 and explain how hydro power i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17Z</dcterms:modified>
  <cp:revision>29</cp:revision>
  <dc:subject/>
  <dc:title>  </dc:title>
</cp:coreProperties>
</file>