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5681-4281-46E7-B4A9-4A8911DD68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FEDF-E9E9-434E-BE84-626746DC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85CA-74C2-4F78-A35D-627E3FC1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020D-52D1-4A43-BB67-85E57B1D70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E1B9-324C-4B20-AE37-E3F87E6D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AD90-8794-4F4F-8671-4BB8AE2D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FF99-8A75-4A3F-9695-39491B1C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C653-C096-4764-835D-7256027E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04E3-3EC5-4CA4-AA15-2F46D787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1562-F5AC-46B1-9293-8F44DF88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11CE-4A11-4E62-9C60-012904D9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8250-7B59-4B0B-8920-D73AB0FA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189A-3156-4E68-B726-81FE743941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Geothermal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6:47Z</dcterms:modified>
  <cp:revision>29</cp:revision>
  <dc:subject/>
  <dc:title>  </dc:title>
</cp:coreProperties>
</file>