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BEDC-1275-4903-B463-C4EDD0174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A7AC-2FD4-4D00-9C2C-18CF6517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3B98-3B06-4D14-92EA-DBEAEB3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70ED-BE11-445D-9A70-14C3FC874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E097-1D26-4CFB-8782-736B46B0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0CD1-7C98-4CE7-AB66-AD8711AA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CA2B-52C6-459C-9CA2-6236D9E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8241-1D19-459A-ACCA-1972AEC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0DEF-4691-4E51-951A-FBF18193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6556-DB92-4BAB-A164-AA7CB3B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CB6E-5345-445C-A30F-56469A5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F895-DFF6-4E70-92AB-02AFF16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841F-52D1-4DAD-AFBA-3A69F0FD4A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eotherm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6:47Z</dcterms:modified>
  <cp:revision>29</cp:revision>
  <dc:subject/>
  <dc:title>  </dc:title>
</cp:coreProperties>
</file>