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3000-C600-4B5B-94FC-9AC907DAC7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3666-835C-4F4A-A2BB-EAF3CD0A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BB89-00F1-4AD9-B30E-2BC2EF41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2E981-A260-4B29-83C2-C959D84F95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A303-9250-4F3B-AA16-B94822A5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4FA1-661A-4174-9783-2DA8B56D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4060-B976-4B86-8C00-50D6C278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3DA41-F20A-480E-9F61-5E28768D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7ABC-C443-4A51-9A1B-A74BD7F9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73D3-E987-4B05-B936-3A96B8B0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1DC3E-0F0E-4B94-A3D7-F12E3BF2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A2AD-5A04-4A4D-A01A-923955CA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83F8-6308-47EB-8393-10982020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bined heat a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 (CHP) pla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ook at the diagram and write sentences,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in your group: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 on the worksheet. 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join the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match the pictures with the correc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14:53Z</dcterms:modified>
  <cp:revision>28</cp:revision>
  <dc:subject/>
  <dc:title>  </dc:title>
</cp:coreProperties>
</file>