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ED677-98D3-4F3F-AD6B-921DF27370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862B0-EEA6-448A-912F-5F01B8C1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FAB93-6603-4590-AB09-79360006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D503B-0C3A-4BDA-9228-560DE2D351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16DEC-40D5-48D6-9AA5-8C5724A7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0DB10-C5AF-4F1A-9BE2-D248FBCC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A96B4-478A-4155-AB80-7FA60FB7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C1FD1-BFB4-4A08-9709-FD18BC4A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A6790-C018-4512-8CB8-ACE72CA8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539A0-9E60-4987-A31D-5C4E53F0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0E735-D689-4449-BF43-1EAD650A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2F077-40FF-4C9E-97B5-7C387E35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DF85-7858-4A9C-9CE2-C9F748292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bined heat an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 (CHP) pla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ook at the diagram and write sentences,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in your group: does burning biomass in a CHP plant add to climat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 on the worksheet.  Does burning biomass in a CHP plant add to climat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join the w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match the pictures with the correct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14:53Z</dcterms:modified>
  <cp:revision>28</cp:revision>
  <dc:subject/>
  <dc:title>  </dc:title>
</cp:coreProperties>
</file>