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A7556-67FD-468D-9CAE-06F291FD70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19CE0-C906-4720-A960-85F8D1F5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7FA68-BFDD-4D8D-BD0C-5E0D34CE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280A6-A652-49CA-AF0A-30FADF4E11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F8E96-BE90-4BE8-A09C-F735AB47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ED986-0F3B-4F9A-954E-0AA6B34F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27B80-4FB1-4935-B0C6-FCCC505D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DBA92-EFF9-4663-9894-9AAEDEC2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6743F-DA90-49F7-825C-AF756892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312B8-19D9-4A50-A0BE-8AA07928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BA958-F957-4524-A909-BC2DDCA3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8837E-B0CD-4F70-BCA3-9839A111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8769-65C7-42D6-97D1-16B741748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bined heat and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wer (CHP) pla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ook at the diagram and write sentences,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in your group: does burning biomass in a CHP plant add to climate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your answers to exercise 1 on the worksheet.  Does burning biomass in a CHP plant add to climate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join the wo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match the pictures with the correct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14:53Z</dcterms:modified>
  <cp:revision>28</cp:revision>
  <dc:subject/>
  <dc:title>  </dc:title>
</cp:coreProperties>
</file>