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3905-D180-47D1-99FE-C51DA12BCD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D295C-1B43-4D2D-88BE-4F316ACB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6BF51-1D34-4599-87EF-6284CA08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544B7-1E90-4F52-968C-F83D3C0815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76A8B-7725-4F8E-85E6-89F05B2D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45E7-8151-46AD-8817-6B22EF0C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34134-ACBD-4D62-B924-5063928A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88AF-A99D-4684-9910-C7BA4B3D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DBF9C-2588-4E6D-BFEE-96AF8CC9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F002-96EB-491F-A33B-EF05BCC1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32E1-CF7C-446F-BF61-BAA817AC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40E44-D703-483C-AE98-AE197C7A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81E4-4846-46A0-B330-CE8670FAB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bined heat a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 (CHP) pl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ook at the diagram and write sentences,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in your group: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 on the worksheet. 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join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match the pictures with the correc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14:53Z</dcterms:modified>
  <cp:revision>28</cp:revision>
  <dc:subject/>
  <dc:title>  </dc:title>
</cp:coreProperties>
</file>