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36BB-C0C6-473F-87F1-C37DFD1C6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FB16-98A4-4739-8629-B8C1A953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034C-A435-4B77-A6D3-B3FB181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D6E7-90CA-4F69-8799-6DCC544E8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E5BD-30D6-4B92-B98A-298BA168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FBE0-A7D0-4AFE-B056-A4812E76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0370-E614-46AA-AF3F-38D14106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9763-F136-4326-A020-00ACB758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1EF4-C44B-4386-AD98-40FD750B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45AB-DF9F-41F2-B505-E081052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EC02-B5C5-493E-B30B-3528059A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D286-4334-4DE7-8C82-0019331A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1B4A-49BE-4F3E-B7BB-8DDF6B283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bined heat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 (CHP) 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ook at the diagram and write sentences,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in your group: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 on the worksheet. 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join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match the pictures with the corre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14:53Z</dcterms:modified>
  <cp:revision>28</cp:revision>
  <dc:subject/>
  <dc:title>  </dc:title>
</cp:coreProperties>
</file>