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28BA1-DD3C-4770-9C8C-75F61CB79E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91073-CF1D-494D-A720-6928546E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04B0-4209-44EF-875E-DD49D66F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AE5F-7C4D-40E8-9438-0B849D4F83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385D-E587-4014-A757-3F5E2830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F8762-109A-46A6-B98E-424AF33A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4F66-7367-4A26-B02E-41A22CB8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7431-4AA3-4C92-B058-8083A1D1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7E411-F151-4751-BFD3-B0DC5190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ABA6-991A-407E-9581-A60B13EA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BCB0-FE19-4604-BEE9-5065B435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302C-4826-4F1D-AFED-65C9D773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4B4D-668E-46C4-A88E-205204F88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mbined heat and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ower (CHP) pla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ook at the diagram and write sentences, using the pro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in your group: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 on the worksheet.  Does burning biomass in a CHP plant add to climate chan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join the w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match the pictures with the correct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14:53Z</dcterms:modified>
  <cp:revision>28</cp:revision>
  <dc:subject/>
  <dc:title>  </dc:title>
</cp:coreProperties>
</file>