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D83-0015-4B76-8542-CBF374D2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663-3CEF-4964-A4F5-2D78622C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BC9-29A0-4196-8C5A-5E80FAED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290-341E-4B66-99CC-D9C5D981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7F1-7717-4458-8F2A-C20CBF7A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EBC-61DF-429B-A029-86510FAB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31E-4350-4874-AEB2-FE4857F8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B9A-7175-4B86-A0EA-F09ED6B1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CDB8-004D-4102-AC29-02BE6B4C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FDA-A3C8-48C1-8995-57266047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C89-9209-4649-801D-D401BF5E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F3F-AE55-4379-A9F4-EAB8E474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44920"/>
            <a:ext cx="835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491E-E0A1-42C2-AC3F-F526EFA19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59880" y="0"/>
            <a:ext cx="128412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Ecosystem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8360" y="1484280"/>
            <a:ext cx="82072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world is composed of living and non-living things. The living part is called the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biosphe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living things depend upon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cosyst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small part of the biosp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habit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where an organism l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nviron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sum of the living and non-living factors that surround an orga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Environmenta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413000"/>
            <a:ext cx="821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nvironment ha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io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bio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276640"/>
            <a:ext cx="3240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7081200">
            <a:off x="2310120" y="3458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 rot="14139000">
            <a:off x="5910840" y="3458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249800"/>
            <a:ext cx="33112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bio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221000"/>
            <a:ext cx="331164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iotic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1863720" y="5057640"/>
            <a:ext cx="574560" cy="486000"/>
          </a:xfrm>
          <a:custGeom>
            <a:avLst/>
            <a:gdLst>
              <a:gd name="textAreaLeft" fmla="*/ 89640 w 574560"/>
              <a:gd name="textAreaRight" fmla="*/ 502920 w 5745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6614640" y="5057640"/>
            <a:ext cx="574560" cy="485640"/>
          </a:xfrm>
          <a:custGeom>
            <a:avLst/>
            <a:gdLst>
              <a:gd name="textAreaLeft" fmla="*/ 89640 w 574560"/>
              <a:gd name="textAreaRight" fmla="*/ 502920 w 5745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661000"/>
            <a:ext cx="2953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, air, temperature, soil, precipitation, w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5661000"/>
            <a:ext cx="273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, commun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Populations and Comm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3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Popul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e organisms of the same species living in the same environ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s co-existing in the same habitat are called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communit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Habitats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change over time and over seaso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imals and plants need to adapt to these chan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Foo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s a source of energy for all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h of this energy is called a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ood ch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ecosystem the components of a food chain are divided into three groups: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roduc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onsu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ecompos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Foo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1090800" cy="163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 rot="10869600">
            <a:off x="2268000" y="1773000"/>
            <a:ext cx="865440" cy="431640"/>
          </a:xfrm>
          <a:custGeom>
            <a:avLst/>
            <a:gdLst>
              <a:gd name="textAreaLeft" fmla="*/ 135360 w 865440"/>
              <a:gd name="textAreaRight" fmla="*/ 757800 w 8654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419640" y="1413000"/>
            <a:ext cx="1655640" cy="1104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 rot="10869600">
            <a:off x="5363640" y="1773000"/>
            <a:ext cx="865440" cy="431640"/>
          </a:xfrm>
          <a:custGeom>
            <a:avLst/>
            <a:gdLst>
              <a:gd name="textAreaLeft" fmla="*/ 135360 w 865440"/>
              <a:gd name="textAreaRight" fmla="*/ 757800 w 8654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300720" y="1341360"/>
            <a:ext cx="16477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3284640"/>
            <a:ext cx="102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7235280" y="3716280"/>
            <a:ext cx="976320" cy="975960"/>
          </a:xfrm>
          <a:custGeom>
            <a:avLst/>
            <a:gdLst>
              <a:gd name="textAreaLeft" fmla="*/ 0 w 976320"/>
              <a:gd name="textAreaRight" fmla="*/ 976680 w 976320"/>
              <a:gd name="textAreaTop" fmla="*/ 0 h 975960"/>
              <a:gd name="textAreaBottom" fmla="*/ 976320 h 975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3645000"/>
            <a:ext cx="2951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Food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796000" y="5013360"/>
            <a:ext cx="1800360" cy="120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39640" y="4869000"/>
            <a:ext cx="1873440" cy="123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0730400">
            <a:off x="3708000" y="5300640"/>
            <a:ext cx="865080" cy="432000"/>
          </a:xfrm>
          <a:custGeom>
            <a:avLst/>
            <a:gdLst>
              <a:gd name="textAreaLeft" fmla="*/ 135000 w 865080"/>
              <a:gd name="textAreaRight" fmla="*/ 757080 w 8650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781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bivo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grassh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299736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781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nivo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6216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30960"/>
            <a:ext cx="25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birds of p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Food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557360"/>
            <a:ext cx="806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link the food chains together we obtain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ood pyram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917360" y="2499480"/>
            <a:ext cx="5307480" cy="4162320"/>
            <a:chOff x="1917360" y="2499480"/>
            <a:chExt cx="5307480" cy="4162320"/>
          </a:xfrm>
        </p:grpSpPr>
        <p:sp>
          <p:nvSpPr>
            <p:cNvPr id="104" name="_s43017"/>
            <p:cNvSpPr/>
            <p:nvPr/>
          </p:nvSpPr>
          <p:spPr>
            <a:xfrm flipV="1">
              <a:off x="3907800" y="2499480"/>
              <a:ext cx="1326600" cy="1040400"/>
            </a:xfrm>
            <a:custGeom>
              <a:avLst/>
              <a:gdLst>
                <a:gd name="textAreaLeft" fmla="*/ 475920 w 1326600"/>
                <a:gd name="textAreaRight" fmla="*/ 850680 w 1326600"/>
                <a:gd name="textAreaTop" fmla="*/ 373320 h 1040400"/>
                <a:gd name="textAreaBottom" fmla="*/ 66708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elic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 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18"/>
            <p:cNvSpPr/>
            <p:nvPr/>
          </p:nvSpPr>
          <p:spPr>
            <a:xfrm flipV="1">
              <a:off x="3244320" y="3540240"/>
              <a:ext cx="2653560" cy="1040400"/>
            </a:xfrm>
            <a:custGeom>
              <a:avLst/>
              <a:gdLst>
                <a:gd name="textAreaLeft" fmla="*/ 583560 w 2653560"/>
                <a:gd name="textAreaRight" fmla="*/ 2070000 w 2653560"/>
                <a:gd name="textAreaTop" fmla="*/ 228600 h 1040400"/>
                <a:gd name="textAreaBottom" fmla="*/ 81180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19"/>
            <p:cNvSpPr/>
            <p:nvPr/>
          </p:nvSpPr>
          <p:spPr>
            <a:xfrm flipV="1">
              <a:off x="2580840" y="4581000"/>
              <a:ext cx="3980520" cy="1040400"/>
            </a:xfrm>
            <a:custGeom>
              <a:avLst/>
              <a:gdLst>
                <a:gd name="textAreaLeft" fmla="*/ 690840 w 3980520"/>
                <a:gd name="textAreaRight" fmla="*/ 3289680 w 3980520"/>
                <a:gd name="textAreaTop" fmla="*/ 180360 h 1040400"/>
                <a:gd name="textAreaBottom" fmla="*/ 86004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ymphs and larv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20"/>
            <p:cNvSpPr/>
            <p:nvPr/>
          </p:nvSpPr>
          <p:spPr>
            <a:xfrm flipV="1">
              <a:off x="1917360" y="5621400"/>
              <a:ext cx="5307480" cy="1040400"/>
            </a:xfrm>
            <a:custGeom>
              <a:avLst/>
              <a:gdLst>
                <a:gd name="textAreaLeft" fmla="*/ 798480 w 5307480"/>
                <a:gd name="textAreaRight" fmla="*/ 4509000 w 5307480"/>
                <a:gd name="textAreaTop" fmla="*/ 156240 h 1040400"/>
                <a:gd name="textAreaBottom" fmla="*/ 88416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ater pla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0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Emily Rosser</cp:lastModifiedBy>
  <dcterms:modified xsi:type="dcterms:W3CDTF">2008-08-26T10:49:06Z</dcterms:modified>
  <cp:revision>17</cp:revision>
  <dc:subject/>
  <dc:title>  </dc:title>
</cp:coreProperties>
</file>