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956-48CA-4E6D-9972-F95F393B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BEF-8378-471D-8565-618F4A72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C06-75E8-43D9-9792-8DD2E8C6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067-B501-4A1B-97E5-02499357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256-56EB-4FD5-A69D-BC825A0C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DA7-1B4B-445C-AB21-D3E5923A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A36B-4500-4177-9C0E-9B41DB8D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7E7-714C-4F7D-A2E4-1226B0F0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BD2-F337-48B1-95A4-873A3AC3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88F2-EEC8-4978-AC66-494D1452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696-B2F2-4B8C-8D94-5CFDC41F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64D0-63F1-4D1D-BBDC-5B62A201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44920"/>
            <a:ext cx="835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283D-88A4-43F4-A397-B64553857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59880" y="0"/>
            <a:ext cx="128412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Arial"/>
              </a:rPr>
              <a:t>Ecosystems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8360" y="1484280"/>
            <a:ext cx="82072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world is composed of living and non-living things. The living part is called the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biosphe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living things depend upon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cosyst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small part of the biosp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habita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where an organism l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environ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sum of the living and non-living factors that surround an orga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Environmental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413000"/>
            <a:ext cx="821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nvironment ha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io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bio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276640"/>
            <a:ext cx="3240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7081200">
            <a:off x="2310120" y="3458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 rot="14139000">
            <a:off x="5910840" y="34581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249800"/>
            <a:ext cx="33112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bio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221000"/>
            <a:ext cx="331164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iotic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1863720" y="5057640"/>
            <a:ext cx="574560" cy="486000"/>
          </a:xfrm>
          <a:custGeom>
            <a:avLst/>
            <a:gdLst>
              <a:gd name="textAreaLeft" fmla="*/ 89640 w 574560"/>
              <a:gd name="textAreaRight" fmla="*/ 502920 w 5745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6614640" y="5057640"/>
            <a:ext cx="574560" cy="485640"/>
          </a:xfrm>
          <a:custGeom>
            <a:avLst/>
            <a:gdLst>
              <a:gd name="textAreaLeft" fmla="*/ 89640 w 574560"/>
              <a:gd name="textAreaRight" fmla="*/ 502920 w 5745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661000"/>
            <a:ext cx="2953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ter, air, temperature, soil, precipitation, w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5661000"/>
            <a:ext cx="273708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, commun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Populations and Comm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3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Popul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re organisms of the same species living in the same environ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s co-existing in the same habitat are called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communit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Habitats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change over time and over seaso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imals and plants need to adapt to these chan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Foo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s a source of energy for all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h of this energy is called a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ood ch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ecosystem the components of a food chain are divided into three groups: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roduc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onsu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ecompos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he Food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1090800" cy="163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 rot="10869600">
            <a:off x="2268000" y="1773000"/>
            <a:ext cx="865440" cy="431640"/>
          </a:xfrm>
          <a:custGeom>
            <a:avLst/>
            <a:gdLst>
              <a:gd name="textAreaLeft" fmla="*/ 135360 w 865440"/>
              <a:gd name="textAreaRight" fmla="*/ 757800 w 8654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419640" y="1413000"/>
            <a:ext cx="1655640" cy="1104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 rot="10869600">
            <a:off x="5363640" y="1773000"/>
            <a:ext cx="865440" cy="431640"/>
          </a:xfrm>
          <a:custGeom>
            <a:avLst/>
            <a:gdLst>
              <a:gd name="textAreaLeft" fmla="*/ 135360 w 865440"/>
              <a:gd name="textAreaRight" fmla="*/ 757800 w 8654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300720" y="1341360"/>
            <a:ext cx="16477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3284640"/>
            <a:ext cx="102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7235280" y="3716280"/>
            <a:ext cx="976320" cy="975960"/>
          </a:xfrm>
          <a:custGeom>
            <a:avLst/>
            <a:gdLst>
              <a:gd name="textAreaLeft" fmla="*/ 0 w 976320"/>
              <a:gd name="textAreaRight" fmla="*/ 976680 w 976320"/>
              <a:gd name="textAreaTop" fmla="*/ 0 h 975960"/>
              <a:gd name="textAreaBottom" fmla="*/ 976320 h 975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3645000"/>
            <a:ext cx="2951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Food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796000" y="5013360"/>
            <a:ext cx="1800360" cy="120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39640" y="4869000"/>
            <a:ext cx="1873440" cy="123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0730400">
            <a:off x="3708000" y="5300640"/>
            <a:ext cx="865080" cy="432000"/>
          </a:xfrm>
          <a:custGeom>
            <a:avLst/>
            <a:gdLst>
              <a:gd name="textAreaLeft" fmla="*/ 135000 w 865080"/>
              <a:gd name="textAreaRight" fmla="*/ 757080 w 86508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781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bivo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grassh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299736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781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nivo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6216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30960"/>
            <a:ext cx="25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ivo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birds of pr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Food 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557360"/>
            <a:ext cx="806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link the food chains together we obtain a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food pyram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917360" y="2499480"/>
            <a:ext cx="5307480" cy="4162320"/>
            <a:chOff x="1917360" y="2499480"/>
            <a:chExt cx="5307480" cy="4162320"/>
          </a:xfrm>
        </p:grpSpPr>
        <p:sp>
          <p:nvSpPr>
            <p:cNvPr id="104" name="_s43017"/>
            <p:cNvSpPr/>
            <p:nvPr/>
          </p:nvSpPr>
          <p:spPr>
            <a:xfrm flipV="1">
              <a:off x="3907800" y="2499480"/>
              <a:ext cx="1326600" cy="1040400"/>
            </a:xfrm>
            <a:custGeom>
              <a:avLst/>
              <a:gdLst>
                <a:gd name="textAreaLeft" fmla="*/ 475920 w 1326600"/>
                <a:gd name="textAreaRight" fmla="*/ 850680 w 1326600"/>
                <a:gd name="textAreaTop" fmla="*/ 373320 h 1040400"/>
                <a:gd name="textAreaBottom" fmla="*/ 66708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pelic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 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18"/>
            <p:cNvSpPr/>
            <p:nvPr/>
          </p:nvSpPr>
          <p:spPr>
            <a:xfrm flipV="1">
              <a:off x="3244320" y="3540240"/>
              <a:ext cx="2653560" cy="1040400"/>
            </a:xfrm>
            <a:custGeom>
              <a:avLst/>
              <a:gdLst>
                <a:gd name="textAreaLeft" fmla="*/ 583560 w 2653560"/>
                <a:gd name="textAreaRight" fmla="*/ 2070000 w 2653560"/>
                <a:gd name="textAreaTop" fmla="*/ 228600 h 1040400"/>
                <a:gd name="textAreaBottom" fmla="*/ 81180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19"/>
            <p:cNvSpPr/>
            <p:nvPr/>
          </p:nvSpPr>
          <p:spPr>
            <a:xfrm flipV="1">
              <a:off x="2580840" y="4581000"/>
              <a:ext cx="3980520" cy="1040400"/>
            </a:xfrm>
            <a:custGeom>
              <a:avLst/>
              <a:gdLst>
                <a:gd name="textAreaLeft" fmla="*/ 690840 w 3980520"/>
                <a:gd name="textAreaRight" fmla="*/ 3289680 w 3980520"/>
                <a:gd name="textAreaTop" fmla="*/ 180360 h 1040400"/>
                <a:gd name="textAreaBottom" fmla="*/ 86004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ymphs and larv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20"/>
            <p:cNvSpPr/>
            <p:nvPr/>
          </p:nvSpPr>
          <p:spPr>
            <a:xfrm flipV="1">
              <a:off x="1917360" y="5621400"/>
              <a:ext cx="5307480" cy="1040400"/>
            </a:xfrm>
            <a:custGeom>
              <a:avLst/>
              <a:gdLst>
                <a:gd name="textAreaLeft" fmla="*/ 798480 w 5307480"/>
                <a:gd name="textAreaRight" fmla="*/ 4509000 w 5307480"/>
                <a:gd name="textAreaTop" fmla="*/ 156240 h 1040400"/>
                <a:gd name="textAreaBottom" fmla="*/ 884160 h 10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ater pla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00 gra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erial written by Francesca Costa, Pavia, Italy. This PowerPoint presentation has been downloaded from www.onestopclil.com.                          © Copyright Macmillan Publishers Ltd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Emily Rosser</cp:lastModifiedBy>
  <dcterms:modified xsi:type="dcterms:W3CDTF">2008-08-26T10:49:06Z</dcterms:modified>
  <cp:revision>17</cp:revision>
  <dc:subject/>
  <dc:title>  </dc:title>
</cp:coreProperties>
</file>