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D09B8-3314-4174-B085-E5A8FF9F88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ADC5B-BAE6-4876-8122-729BB9C2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B3BE3-7E2E-4DD3-862F-74ECB6E2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25855-6354-428D-952C-C5DA9754D3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1CE33-FF65-412E-B332-D7C4B4F1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40875-126B-465D-8778-37DD069A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8A19B-C4F2-4492-9DC8-5A0D4824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37869-A221-4043-B037-0ACAD784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C2383-3B7B-41A5-951D-1690CA81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E5729-D5BE-4731-A33C-6FAA4C96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6B71B-73D1-46E0-B8A7-CDC49563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BCA8B-9E86-4C78-BF35-6807289E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3E56-3CF2-48C4-BC99-7807C617B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Wind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lk in your group and discuss how wind power generates electricity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complete the ga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write the number of the correct sentence next to each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52:32Z</dcterms:modified>
  <cp:revision>27</cp:revision>
  <dc:subject/>
  <dc:title>  </dc:title>
</cp:coreProperties>
</file>