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F33C2-9E6F-46A5-AE3A-8CA3395CA5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B514-722A-40A9-95E7-78585B62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38FD-45AD-4C3A-92F1-8202A4F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24C9-33E6-404B-97C6-8D4FA4EA1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5A85-8F1F-45D4-A671-EB3621A2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5A7A-4ED5-4E7D-A5A5-01CCC74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4B1C-204D-4C32-9077-01514CEF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B3D0-1A0D-4217-97E7-A597EDF1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14DD-C3B8-4793-8292-DECEB0F6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4C66-14E0-4B53-BD41-3AE52B3B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16F3E-CE82-464B-90C1-5166276D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C2C3-7456-4A69-B5D2-7E398524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C17B-6489-4882-BE2F-2168FF566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ind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52:32Z</dcterms:modified>
  <cp:revision>27</cp:revision>
  <dc:subject/>
  <dc:title>  </dc:title>
</cp:coreProperties>
</file>