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A480-D4D4-42DA-817C-A1A4EFFD0D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D2943-8A95-4DE9-8C23-1531E96E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AE87F-6497-4992-BFD3-B12E4780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E4D0C-DD02-4BB2-9DB9-87746F5958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A4772-29A0-4841-98B2-F0E6EC69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32BD4-D084-4200-899D-4F313A339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748A8-9CB3-46F2-AEB6-58802AF11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914F1-B4FE-4625-A74F-12A12B629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3F42F-BDFC-465A-84F4-1DF6B2C46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13A9F-78C1-4FBF-8B43-F496D874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A151E-BFAC-40E6-96A8-D56D9FA4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81162-36B7-4353-A01E-51F22B219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8013-EF4A-403F-B8C0-8BD214B09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Wind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from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lk in your group and discuss how wind power generates electricity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2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write the number of the correct sentence next to each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cKeown</cp:lastModifiedBy>
  <dcterms:modified xsi:type="dcterms:W3CDTF">2008-09-12T13:52:32Z</dcterms:modified>
  <cp:revision>27</cp:revision>
  <dc:subject/>
  <dc:title>  </dc:title>
</cp:coreProperties>
</file>