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F966-218C-4A7B-9652-8CAE6E9B75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9699-6333-4E47-93EB-826F6ECB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F007-9046-45C8-99A2-8C8A34DD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AF72F-7651-47FD-AB7E-42ECDEC00E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2F3B1-EDE9-4771-B3B5-51A69E08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9C0B-E8AF-4AB3-993D-2D061984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7880-F8A5-401B-9F10-3A9F1475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40D7-35C3-48EE-B9C0-2DAAC99F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B0F8-3598-490A-B671-189E4EE3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16C6-BABE-4B20-B2A8-1C3EEB22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78D9-9157-4193-AA30-BF04B500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B65F2-7FC2-4373-AFAB-C753E6D5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EA82-DC43-48DB-81B6-C00185D7E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ind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ind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write the number of the correct sentence next to each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52:32Z</dcterms:modified>
  <cp:revision>27</cp:revision>
  <dc:subject/>
  <dc:title>  </dc:title>
</cp:coreProperties>
</file>