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EB7DC-DAAA-447D-BC4B-01897D56A5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45AD1-1699-4DC5-94D2-981CCA6F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CA44C-46C9-4912-A3F2-604113EC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25CE-2FBB-4120-9BEE-3FD269019A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9C46-748C-43AE-B794-D6BC41BA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7CFC4-0D79-4459-BC24-8FF0B7FA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67F13-7C72-4E3B-9DD5-D54673D8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A992A-A6E7-4F17-A51C-FA4A81AA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480F0-FF88-46E9-BD65-E448A7F7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C6E0E-F408-4522-8A79-ECF32723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58880-72D2-44B8-938E-AC4B4177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90623-AD77-42EB-B182-4A7AEDE0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C7ED-7708-42E0-B569-5F2FAA9D2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greenhouse effec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s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fossil fuels conta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we burn fossil fue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a greenhouse gas d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more and more greenhouse gases go into the atmosp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the Earth gets war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ask and answer questions with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answers to the questions in exercise 1 with your partner/group. Did you guess the answers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and do exercise 2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talk about the pictur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39:04Z</dcterms:modified>
  <cp:revision>30</cp:revision>
  <dc:subject/>
  <dc:title>  </dc:title>
</cp:coreProperties>
</file>