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F9AC-9BC4-4FB4-A626-77DA6375D8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6442F-8F0B-44EC-AA29-B37126C8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EE62-58E7-4579-A5EC-8367D97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6D766-87A7-4EA4-9104-B61EDB5671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54DC-DB27-4278-8D1C-76A0180E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230C5-5837-4A38-8D1B-516F8DF3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8EB42-0811-4694-AA44-BD1809B7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5DF43-DF42-4A91-A0DA-FDBD57AB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8066-48E0-4ABB-B9E4-68058043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E4B7A-0B6B-4204-AAA3-7687EAC5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EA10-BD63-4B30-A8F1-53AED308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867C6-0DFC-4F17-A283-4A962290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7605-1431-4059-B1BD-4BEB6B2A5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fossil fuels conta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we burn fossil fue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a greenhouse gas d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more and more greenhouse gases go into the atmosp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the Earth gets war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ask and answer questions with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answers to the questions in exercise 1 with your partner/group. Did you guess the answers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do exercise 2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talk about the pictur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39:04Z</dcterms:modified>
  <cp:revision>30</cp:revision>
  <dc:subject/>
  <dc:title>  </dc:title>
</cp:coreProperties>
</file>