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A55C-3C51-46E0-AA63-075E89673E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F2AF3-1EC7-4048-AC35-A9E0FCF3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D768-F0D9-4E71-B1C0-C32BCA16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51D2-C330-4CEE-AFE7-19133B33EB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D937-07C3-44B7-9116-FDCBFF6B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FFF13-D176-467B-BEC1-FCB5298A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10F0-2727-49B8-B1EC-461D1B55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067D-01B6-42A7-A95C-C4A902D0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44E0-B53C-4E71-88FC-44CCD3F8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FA225-1713-46E8-A9B1-B6F6DA1F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90FC-553F-428C-AF0F-55946F18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4FAB9-E447-4588-8718-3D0B3E3F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296E-D800-4B96-B017-AE32C263C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fossil fuels conta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we burn fossil fue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a greenhouse gas d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more and more greenhouse gases go into the atmosp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the Earth gets war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ask and answer questions with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answers to the questions in exercise 1 with your partner/group. Did you guess the answers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do exercise 2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talk about the pictur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39:04Z</dcterms:modified>
  <cp:revision>30</cp:revision>
  <dc:subject/>
  <dc:title>  </dc:title>
</cp:coreProperties>
</file>