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7781-8262-4B35-991B-A3F3C1760C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AF29-D0EB-458B-AE70-432BD61B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FB6C-9FCE-4B5D-947B-D93C7D4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BF68-057F-411D-BF70-FB17AC975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9715-D826-4C47-8E54-A244201C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DF7C-66FD-4B91-91E4-6D626C95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F3FA-49D0-4A99-8E06-BAA6F626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42FB-0645-4D8C-AC83-066BC202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8EBF-56B2-4FCC-B210-6936392C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F1CA-7BC0-40C1-BA4E-7183736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8FAA1-681D-4079-8489-98AD5A3E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269D-F9EA-46AB-BE92-5F6D91DE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2FDB-990C-43E4-A044-B4C75EB05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ossil fuels con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we burn fossil fu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 greenhouse gas 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more and more greenhouse gases go into the atmosp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the Earth gets war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ask and answer questions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nswers to the questions in exercise 1 with your partner/group. Did you guess the answers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do exercise 2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39:04Z</dcterms:modified>
  <cp:revision>30</cp:revision>
  <dc:subject/>
  <dc:title>  </dc:title>
</cp:coreProperties>
</file>