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57F1F-3550-491F-99E2-99F2A1AD18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F18A9-3432-45BA-891E-A9664DFD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AFD17-D3E8-490B-8270-4D09DFF5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9E7EC-E6D9-4F62-9D31-7625D23E83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BB446-F56E-4F63-9EFD-378E99D1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7F9AE-3063-4F12-81AB-D4EAB1D3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C1222-8127-47CD-AF3F-2608DE30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D8E07-98DE-4156-97FC-D23D4E9F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22F44-04D3-44D5-85C8-3889E67C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AE9AA-D758-48D1-B739-D92D9405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78CEE-D794-4805-89D2-9360E3AB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51BA3-4FD7-4E66-A392-78A599AD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2C0C-B69C-4917-B8D3-CCE3D8CD0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 greenhouse effect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from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these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 fossil fuels conta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s when we burn fossil fue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es a greenhouse gas do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s when more and more greenhouse gases go into the atmosp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s when the Earth gets warm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ask and answer questions with your part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the answers to the questions in exercise 1 with your partner/group. Did you guess the answers correct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animation and do exercise 2 on the worksheet: complete the ga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talk about the pictures using the pro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cKeown</cp:lastModifiedBy>
  <dcterms:modified xsi:type="dcterms:W3CDTF">2008-09-12T13:39:04Z</dcterms:modified>
  <cp:revision>30</cp:revision>
  <dc:subject/>
  <dc:title>  </dc:title>
</cp:coreProperties>
</file>