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C50C-A655-4451-9C19-36C9F2A77A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C52B-AD23-4BD6-A8F9-0024E3F3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3A7C-151E-4BA9-BBEC-05247BFC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9C85-BD06-4FE4-933C-160802B9CF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8629E-E543-4650-A59F-376F977D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8BA0-DEE7-4CB7-9A05-6FD48457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1994-F2B9-4B69-AF7F-DBBB0136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4E9F-043C-40E5-B52C-5EE7F96B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6E1A9-D1D2-487A-AD88-B931FD14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3EE0-D609-4222-B2FC-5320E8DD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45B7-0313-4FA9-83D6-38C62EDE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51FB-A5E6-4796-9B84-62C7EF3A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861A-70C6-4A7E-AAF4-2CFB7016E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Nuclear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r idea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write captions under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0:39Z</dcterms:modified>
  <cp:revision>29</cp:revision>
  <dc:subject/>
  <dc:title>  </dc:title>
</cp:coreProperties>
</file>