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836F-5B0C-49C2-A182-6C0E67F013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729B-AF63-4901-B6D1-A9408A33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2489-5249-4587-8EAE-1ECF3B78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B538-D1B8-4F64-AEF9-7491034CCF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33F0-6787-4190-81A5-389BEB35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5002-7EE6-4F5A-B941-FD4A6998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F8268-BF29-4CFE-A934-AEF2FE62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39A65-AE66-4242-897C-583685E9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5B57-5FDD-4ED3-B80F-4FE2F580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0FB6-D753-422B-A635-FB5F0D8E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18E45-AD00-4278-8CBB-92159043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E18D-1FD8-4CE0-B2FC-50504C97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E976-E89A-4FC9-BAA0-E5EA2AF73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Nuclear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talk about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if your ideas were 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write captions under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0:39Z</dcterms:modified>
  <cp:revision>29</cp:revision>
  <dc:subject/>
  <dc:title>  </dc:title>
</cp:coreProperties>
</file>