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C9A7-26E3-4780-8DE6-8ECA8EDF69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7FA9-0AF9-454E-8186-47F2F3E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E462-2544-47DA-B72B-09207262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EDBD-8A77-4A0F-899C-4545879F2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23E0-B366-4DE6-A30A-9335E121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99C6-4360-4363-8D26-B7074632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5DDE-BAB0-4132-BE15-D9D3D60F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5DAE-6A89-44D2-9EFE-433BBA81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F341-B96D-4149-9CFE-FB74179E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272D-4094-4611-B99D-935115D2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D779-E380-4E47-8BC2-9CF3C924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A0C3-2C42-40EB-B5DA-B5B90EF4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0BEC-001A-4672-890F-2FBE4B248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Nuclear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r idea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write captions under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0:39Z</dcterms:modified>
  <cp:revision>29</cp:revision>
  <dc:subject/>
  <dc:title>  </dc:title>
</cp:coreProperties>
</file>