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02F1-692B-4979-ACB0-350FB4A0F8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031D-035A-407E-9E1E-BFF14783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F9846-9EC6-4443-9806-349711E9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90B9-853A-4FD8-BB3A-CECF7A9C81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B8EA-4BDF-44F9-92BE-E42BFAC6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5C1CF-712D-4257-A8E9-EE5B0652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7991-87B8-416D-AEEC-EB90159C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4373-9237-4A05-85B5-7A3C09A7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2D86B-2030-4707-A9F5-60DEBB3A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349A-341C-49DD-9500-708FD0C4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A8451-55F4-473C-84AA-0C395CC5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0BC6E-5140-4881-B5C9-CACC13AD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BAEF-9FB1-4106-9017-40C7C30E8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Nuclear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talk about the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if your ideas were 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write captions under the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20:39Z</dcterms:modified>
  <cp:revision>29</cp:revision>
  <dc:subject/>
  <dc:title>  </dc:title>
</cp:coreProperties>
</file>