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BDAD81-907F-4D92-BB0B-D5025AF4090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BCCD66-A32E-4C63-92B8-8B6A088BA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9FAE80-8020-4CBB-BE30-0AA67DACE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9A1491-C496-43C2-9140-6BB47E131E6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B65C1B-AA6B-43A2-BACB-415AB2B40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BD4B85-6F54-4BED-AD70-249A1A0F9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569418-CBDF-47E3-96FC-1B939569B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27E7EE-19B1-43AD-BBDE-C87F845BB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485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8AD502-C29A-43EC-9F8F-159D235E9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EB4CDD-B04B-4A21-9007-54AC7C746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DAF3C3-4698-4B03-A896-4DDEB6864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742236-5A14-4ED5-A4FC-C134A0A65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F5275-6BAA-40B6-8442-42477A7DF3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onestopclil.com/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Nuclear power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6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2920" y="6400800"/>
            <a:ext cx="8893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his PowerPoint presentation has been downloaded from 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onestopclil.com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. Presentation written by John Clegg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Copyright Macmillan Publishers Ltd 2008.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nimation licensed from The Science Museum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Before you 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exercise 1 on the worksheet: talk about the pictu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atch the animation and check if your ideas were corr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ShockwaveFlash1"/>
          <p:cNvGraphicFramePr/>
          <p:nvPr/>
        </p:nvGraphicFramePr>
        <p:xfrm>
          <a:off x="0" y="0"/>
          <a:ext cx="9142560" cy="685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2560" cy="68565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fter you 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exercise 2 on the worksheet: write captions under the pictu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exercise 3 on the worksheet: complete the gap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esentation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for classes working in groups onl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Give an oral commentary on the anim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8T12:15:46Z</dcterms:created>
  <dc:creator>Macmillan Staff Member</dc:creator>
  <dc:description/>
  <dc:language>en-US</dc:language>
  <cp:lastModifiedBy>McKeown</cp:lastModifiedBy>
  <dcterms:modified xsi:type="dcterms:W3CDTF">2008-09-12T13:20:39Z</dcterms:modified>
  <cp:revision>29</cp:revision>
  <dc:subject/>
  <dc:title>  </dc:title>
</cp:coreProperties>
</file>