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9A46-255A-47BA-8060-092D73773A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1341-896A-4AD7-96D7-D06BD9D9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659C-C0EE-4F6A-8CAF-34E1AE3F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BAAD-D3F3-4CE7-940A-8313CC2868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8DB9-E86C-4CC3-92DB-12CE7394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5249-0434-45B2-AB7A-ED489FB9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FCB2-F30D-4D7C-ADE2-CFAE0E70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DA45-B4F9-4618-82B0-9BF1FC1B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D5C3-7AD8-40B2-B19B-A1D8BDD9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C565-A47A-42DA-A91C-CE596B00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D2D4-E04C-46DC-A9EB-B6203AE7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1089-E292-43B3-9E3E-7772385B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8778-50B0-4D01-A53E-5D7A443A2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Nuclear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if your ideas were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write captions under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0:39Z</dcterms:modified>
  <cp:revision>29</cp:revision>
  <dc:subject/>
  <dc:title>  </dc:title>
</cp:coreProperties>
</file>