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1DD7-562C-4BA0-84D9-86361CB36D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0DD8-4317-4314-8088-3AE92036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EDF7-1E2D-4F31-967C-24B9C7A8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F6A0-F3EE-4E57-AAD0-47235ADB5B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2DCB-6BC9-4DB7-925D-F3C83E5F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8676-1118-40B2-8062-0D4C056A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A2AC-52D8-410C-8B90-D000F5D2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28C9-17A6-44DF-95E4-00D178A9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D757-548A-40F7-919E-05A94CCE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D275-A2CD-4A59-88AB-FE56B710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E988-1C78-4785-A916-E9DAF322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E0E6-A43F-4597-8DCA-7B7EB65A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6707-6194-4A0A-936B-0D17779E0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oil and gas were form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questions in exercise 1 on the worksheet: discuss them with your partne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exercise 1 on the worksheet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your answers to exercise 1 in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6:19Z</dcterms:modified>
  <cp:revision>33</cp:revision>
  <dc:subject/>
  <dc:title>  </dc:title>
</cp:coreProperties>
</file>