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BE1E6-1B39-4A9B-99B2-B53D651119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1A643-8B90-47F0-8B7B-ED7FC78B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8E291-0FF6-4C93-982C-6D6E9E09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59C28-E3BE-4320-B069-D696D94B78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645CF-E954-4FC2-8975-A2C7B004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40010-A087-4B96-8DD5-EC200C62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4997C-C05A-4697-9D2E-0B93AA88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D8D69-D137-4C86-AB0F-F95EE0C6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90BB1-D8BB-44D2-BF61-33461BC0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0731B-7396-4DD1-9FFE-53DA7D90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70357-C124-4491-9BB8-79ECA64D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A84EE-D1C2-4F40-B8D6-A0D4F744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4F32-9D03-4CDB-B926-9F0B8C0D9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ow oil and gas were form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questions in exercise 1 on the worksheet: discuss them with your partner/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answer the questions from exercise 1 on the worksheet. (Make note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your answers to exercise 1 in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talk about the pictur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26:19Z</dcterms:modified>
  <cp:revision>33</cp:revision>
  <dc:subject/>
  <dc:title>  </dc:title>
</cp:coreProperties>
</file>