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43E2-C094-4903-AA9A-4DB48D6A1E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17AC-34A5-4402-8742-034E38F9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084A1-8F26-479D-862E-137FFECC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F6CD-E6FE-42DA-9D6A-057EE2FBBB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3908-010A-44F0-9B6D-339CCFC2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76A8-1C5C-4A5C-AA6A-5BA96B89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51E8-CD0B-423E-A045-A8841C85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37D4-7D89-4090-A46A-671ACFA3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AF3E-3C98-4D7B-B7EC-030AD39F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777E-81A7-413F-9B02-93B2213B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108FD-7066-4CED-A2CA-606A1AD1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69FFB-0B86-4CA0-BA87-4E0B2A1C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8A5A-83FA-4B83-BBBE-7B01AFB2D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oil and gas were form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questions in exercise 1 on the worksheet: discuss them with your partner/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answer the questions from exercise 1 on the worksheet. (Make not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your answers to exercise 1 in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talk about the pictur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26:19Z</dcterms:modified>
  <cp:revision>33</cp:revision>
  <dc:subject/>
  <dc:title>  </dc:title>
</cp:coreProperties>
</file>