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F84DB-04D2-4522-A2D4-134CF9ADCC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6901F-B536-47E6-8905-C390D53B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35189-81FB-4510-A34D-382BF5A5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03DFA-4215-42AE-A50B-7A462505FD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80480-1E61-4CDC-A027-0E07EC0E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12AA0-01A6-4610-AD73-4E9D8E4B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D1145-41A9-4739-ACA1-523EAFEF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7015A-7967-492B-8652-BE35E7F05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0E6C9-095B-4668-ACFA-956DF0F28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41B51-2DE8-4E98-BF51-9C5B8622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BF2F3-BA3D-40BA-A54D-3B28B794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E7C33-1721-49A0-9C26-4A588C84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89F6-41F1-4E95-AD77-E1482EA49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How oil and gas were form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from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ok at the questions in exercise 1 on the worksheet: discuss them with your partner/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answer the questions from exercise 1 on the worksheet. (Make note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your answers to exercise 1 in grou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2 on the worksheet: talk about the pictures using the promp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on the worksheet: complete the ga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cKeown</cp:lastModifiedBy>
  <dcterms:modified xsi:type="dcterms:W3CDTF">2008-09-12T13:26:19Z</dcterms:modified>
  <cp:revision>33</cp:revision>
  <dc:subject/>
  <dc:title>  </dc:title>
</cp:coreProperties>
</file>