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F815B-69EE-44C1-8003-9657C25FBE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9FBC6-A663-48D5-A3BE-4387CFAF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79A9D-952F-42DB-B85F-E8028006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25086-DE65-4E11-9B9C-B63F669B80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71A42-ABF0-4DBE-B7F1-3F9733F4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6EFB1-41AD-4B25-A409-7AAA5DE6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23F73-6C2B-4775-A340-4A0D4B8C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02838-8F02-409E-80AF-4D2B230E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FA8CD-1790-4197-9767-014BE84B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E113C-EB8E-4CF4-BE0B-672BE697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F12EF-945D-479F-BD7A-C26A01DC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F6CF7-BA8D-4FEE-8AD4-A32EE5EB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18BD-8A8B-4E59-9722-F83C29EA5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How oil and gas were form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 at the questions in exercise 1 on the worksheet: discuss them with your partner/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answer the questions from exercise 1 on the worksheet. (Make note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your answers to exercise 1 in grou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2 on the worksheet: talk about the pictures using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complete the ga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26:19Z</dcterms:modified>
  <cp:revision>33</cp:revision>
  <dc:subject/>
  <dc:title>  </dc:title>
</cp:coreProperties>
</file>