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86B4-69EA-4119-8ADB-96BCBE1C5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D5F6-B291-4B7A-84CB-8EB8EF06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B868A-76C5-40D7-AE74-098C25C4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0223-9097-4C8B-9265-2AFA43AA2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7317-B334-496D-A53E-0D872579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95F2-033D-4D07-B765-D1AB8670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408E-5E84-4A99-8409-E34BDF8E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F34C-DEF1-4A56-A39C-52113D45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69C5-4526-48E2-8D7E-61D3EAF0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7E5F-93FC-4172-92F1-1CEC5046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A77E-7A76-4E7E-9389-133B3642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3CD7-49FA-4F07-8972-C2EE2A71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1B0B-8110-4D5C-AB1E-CAF5A70EC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oil and gas were form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questions in exercise 1 on the worksheet: discuss them with your partne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exercise 1 on the worksheet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answers to exercise 1 in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6:19Z</dcterms:modified>
  <cp:revision>33</cp:revision>
  <dc:subject/>
  <dc:title>  </dc:title>
</cp:coreProperties>
</file>