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898-453B-4C1C-B4FF-70084C8A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1E7-7A8F-4BFE-BAC3-B950C116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D80-3DAB-4BEA-9AC4-37B0AAFE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F71-DAB1-42EF-BEA8-CE321ACB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677-BEF2-4148-892B-304DD3C2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1F7-F1E2-4B97-B470-B3E4ED6D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609-A1FB-47B0-B044-2740FAB6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B98-D48D-4385-B9E1-29DF942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D5D-E0BB-4BE1-A39F-20415D42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16C-6FD1-4D8E-A8D8-AC8FA164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C3D-22FD-4DB2-866C-F0E8963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E4F-F755-41C3-969A-3DB3D9B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 written by name of teacher, count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© Copyright Macmillan Publishers Ltd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6C1-C063-4E95-A467-891DD8DA7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o’s got wha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9500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32680"/>
            <a:ext cx="828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 Do exercise 1 on the worksheet in groups: make sentences about the distribution of energy resourc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you right? In groups, describe the information on the map using exercise 1 on th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468360" y="476280"/>
          <a:ext cx="82072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207280" cy="568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number the different regions from 1 (least) to 6 (most) in the relevant colum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energy resources of the different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45:38Z</dcterms:modified>
  <cp:revision>36</cp:revision>
  <dc:subject/>
  <dc:title>  </dc:title>
</cp:coreProperties>
</file>