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A452-A7DB-4504-A70F-71BB42B7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8488-0ED0-413E-A658-E360700B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C276-2AAD-4615-91B4-92A5C44F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5916-4653-44BB-BB35-6E78367E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030A-C23B-4289-A35A-2A2949F6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071F-55A1-4012-BCC2-ADCA358D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F21C-55AA-4A4A-8F23-AD5D3CD0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4A37-7D2B-4E5F-A7BD-49A50680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1DE2-9F62-4CF9-84F0-E11DD776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E583-5E68-4A58-9981-886C7EEA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FE5B-DF84-4B6C-84AE-0928F851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5452-B418-448B-8EAB-9D3020B1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44920"/>
            <a:ext cx="8351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erial written by name of teacher, count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www.onestopclil.com. © Copyright Macmillan Publishers Ltd 200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F076-71E4-46E2-8904-86C9ED23C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Who’s got what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595008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232680"/>
            <a:ext cx="828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  Do exercise 1 on the worksheet in groups: make sentences about the distribution of energy resources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you right? In groups, describe the information on the map using exercise 1 on the work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ShockwaveFlash1"/>
          <p:cNvGraphicFramePr/>
          <p:nvPr/>
        </p:nvGraphicFramePr>
        <p:xfrm>
          <a:off x="468360" y="476280"/>
          <a:ext cx="8207280" cy="56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6280"/>
                    <a:ext cx="8207280" cy="568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exercise 2 on the worksheet: number the different regions from 1 (least) to 6 (most) in the relevant colum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he energy resources of the different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45:38Z</dcterms:modified>
  <cp:revision>36</cp:revision>
  <dc:subject/>
  <dc:title>  </dc:title>
</cp:coreProperties>
</file>