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46D-ADE8-4AAE-9125-58F06C17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E5E-B2FA-4FB0-B5FC-0042A6CF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A48-8E72-4243-AB6D-C2165340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CF1-E658-4B8E-A450-564CDC20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722-D379-4BC7-A042-8B42F6F5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9A2-137E-4FCF-97E8-D46D2713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D52-524B-4DE3-8C3E-D62880BC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639-077B-48D9-A301-36CC4A54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46C-3A04-4CC0-AB0D-41FCCEE1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B5A-46B6-465F-85E5-93CF3A67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A41-BDBB-41C2-A900-7EF559C8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74B-09D3-4390-8823-A056112F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 written by name of teacher, count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© Copyright Macmillan Publishers Ltd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71B1-724C-4BE5-AF8C-BF294E326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ho’s got wha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9500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32680"/>
            <a:ext cx="828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 Do exercise 1 on the worksheet in groups: make sentences about the distribution of energy resourc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you right? In groups, describe the information on the map using exercise 1 on the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468360" y="476280"/>
          <a:ext cx="82072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8207280" cy="568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number the different regions from 1 (least) to 6 (most) in the relevant colum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energy resources of the different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45:38Z</dcterms:modified>
  <cp:revision>36</cp:revision>
  <dc:subject/>
  <dc:title>  </dc:title>
</cp:coreProperties>
</file>